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A921-F8F4-4FEB-B35B-08203204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FF23-0C9D-4113-AA4A-D9D91A1B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F76-FE17-43EB-9CDD-F134A26C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67EA-541B-4945-B14B-D5BAB4F7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6EF-7324-47BF-8D7B-95F1973E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23D-2183-44B3-B386-663286D8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A28-F54C-40E1-B744-9BC8D208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85C-EF49-44D3-8154-FECCF605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8F98-4B19-4E31-ADE3-DFD04A13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337-1843-4C66-BD0C-C5815934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02F-215F-4D0D-828C-EF1C7159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F97-D492-4BEF-8EEC-0C4E6F42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FED5-E32D-4881-9486-7E2C7E796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gion10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4064040" cy="653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572000" y="4059360"/>
          <a:ext cx="4343400" cy="27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4059360"/>
                    <a:ext cx="4343400" cy="27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4495680" y="457200"/>
          <a:ext cx="4648320" cy="329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95680" y="457200"/>
                    <a:ext cx="464832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257800" y="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ción a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3657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uación co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4:11:16Z</dcterms:created>
  <dc:creator>Marcela Munizaga</dc:creator>
  <dc:description/>
  <dc:language>en-US</dc:language>
  <cp:lastModifiedBy>Marcela Munizaga</cp:lastModifiedBy>
  <dcterms:modified xsi:type="dcterms:W3CDTF">2004-10-06T04:22:02Z</dcterms:modified>
  <cp:revision>1</cp:revision>
  <dc:subject/>
  <dc:title>Sin título de diapositiva</dc:title>
</cp:coreProperties>
</file>