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9C4-4D40-4969-828A-9072F342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AD5-A717-49BF-B314-ADEAAB0F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F72-4E31-4757-8FED-58B6F221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4B1-F380-4868-90B5-528178A9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7E5-A9A1-4B96-B84E-FDA713D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8BE-3F05-4264-BC63-8E21D68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844-D648-4F44-BD6C-093ECD2E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6C7-7EA7-441C-A100-B686A77B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1F8-E48D-434C-8651-D8DD2FAF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25A-5022-4865-A20E-BFB8996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B2A-C821-459C-8F5B-C6B0C37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D68-C6A2-4B3A-8CD0-5C54EAE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F97-4563-4527-9AE2-F9278C668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gion1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064040" cy="653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572000" y="4059360"/>
          <a:ext cx="4343400" cy="27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4059360"/>
                    <a:ext cx="434340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495680" y="457200"/>
          <a:ext cx="4648320" cy="329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457200"/>
                    <a:ext cx="464832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25780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co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4:11:16Z</dcterms:created>
  <dc:creator>Marcela Munizaga</dc:creator>
  <dc:description/>
  <dc:language>en-US</dc:language>
  <cp:lastModifiedBy>Marcela Munizaga</cp:lastModifiedBy>
  <dcterms:modified xsi:type="dcterms:W3CDTF">2004-10-06T04:22:02Z</dcterms:modified>
  <cp:revision>1</cp:revision>
  <dc:subject/>
  <dc:title>Sin título de diapositiva</dc:title>
</cp:coreProperties>
</file>