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DFB-7D12-4811-9E05-766714AC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69C-E448-499E-A6BE-CBA1AFD1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25C-20C0-4E5B-8CA5-A0C7ED48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A7A-CF3F-4F68-80F9-E572A632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19A-8EAE-4A6F-AEAC-212E7CB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956-49FA-4C19-B74A-5F64191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D88-6385-4387-925C-85944C65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FA9-388F-489C-A9D8-7A725AC3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E3C-1313-4CEE-87F9-ED029342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096-CA55-475E-A376-2C9559B4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90C-4D44-486D-A622-27C0D6D4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E7B-9DFF-4C03-8D32-D6EE784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7FF2-818D-46C2-B8B8-2CC063F8B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gion1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4064040" cy="653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572000" y="4059360"/>
          <a:ext cx="4343400" cy="27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4059360"/>
                    <a:ext cx="4343400" cy="27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495680" y="457200"/>
          <a:ext cx="4648320" cy="329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457200"/>
                    <a:ext cx="464832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25780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ción co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4:11:16Z</dcterms:created>
  <dc:creator>Marcela Munizaga</dc:creator>
  <dc:description/>
  <dc:language>en-US</dc:language>
  <cp:lastModifiedBy>Marcela Munizaga</cp:lastModifiedBy>
  <dcterms:modified xsi:type="dcterms:W3CDTF">2004-10-06T04:22:02Z</dcterms:modified>
  <cp:revision>1</cp:revision>
  <dc:subject/>
  <dc:title>Sin título de diapositiva</dc:title>
</cp:coreProperties>
</file>