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A7C7-AF34-4DE2-B204-C5F008F9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F42-C765-4C19-B86C-51A8C9EC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1CD0-F8B6-4C53-835F-9D2F3A1A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C3E-9493-4006-9969-86ACA283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DB46-507F-4E27-86EB-812B4EA9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7A70-92D6-44C6-AB5E-F57FCD67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7DC-58F8-4EF1-AD07-7D5616BD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C05A-1498-4268-AE3D-273AA4C1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587-C7B1-467A-941A-A54C7CCD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48B-73C8-4B6B-99CB-06755AA7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AAD3-10A4-4391-B1E6-7E0CF05B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B0E-D543-4002-94A1-30BECD7D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54D7-87A2-4787-B689-090417129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que pasan por un cierto punto fij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presentes, en un cierto instante, en una sección de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uación fundamental del tráfico: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laciones:la velocidad decrece con la d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1720" y="1205280"/>
            <a:ext cx="2040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20360" y="4034520"/>
            <a:ext cx="2309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1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30T04:05:21Z</dcterms:modified>
  <cp:revision>113</cp:revision>
  <dc:subject/>
  <dc:title>Sin título de diapositiva</dc:title>
</cp:coreProperties>
</file>