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4FA-C6E4-40A5-A4EA-7AB0880A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7A6-0C31-41B2-8893-69EA8151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A5A-4940-43D2-9DB8-DD1F040D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609-BAB3-4BBB-9114-46D41652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457-6DF7-4926-A425-2CFD1626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E6B-FBE2-493C-A232-5767921C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373-8D1D-4B55-9032-F57A3F28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079-CFBB-4A42-ADA6-46E61C65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1D4-76CB-4610-AF10-37E2353D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D83-4197-422D-981D-0A6B92E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2F4-9A4B-416D-B075-D531659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5EE-88D4-4ABB-BBE8-A961BC9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EB76-B6ED-42AD-8E65-B7628E801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720" y="1205280"/>
            <a:ext cx="2040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20360" y="4034520"/>
            <a:ext cx="23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30T04:05:21Z</dcterms:modified>
  <cp:revision>113</cp:revision>
  <dc:subject/>
  <dc:title>Sin título de diapositiva</dc:title>
</cp:coreProperties>
</file>