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DD8-5F9F-4FB4-B27D-928F6247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6B3-94D6-485B-BD8B-4CE47B5B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14A-6FAB-4310-926D-A2804FA4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21C3-A505-44BC-B2D9-1030F6A7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BFD2-3CE8-4E52-96B8-479809EE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4D64-AB27-484D-8403-9F401B4F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5BD-F105-4D66-B74D-82AE4334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CE56-3549-4457-AD2D-7CE1562A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6BB-3747-49C4-87D8-88773DAC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36AB-DC2C-4E84-BD71-08640C40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ABAA-EAD7-422B-AEC0-0D6CA86A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583C-1421-44B8-BB9A-AF5661BD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F266-7B8B-4FE1-B354-92A1D1DB1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que pasan por un cierto punto fij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presentes, en un cierto instante, en una sección de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uación fundamental del tráfico: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laciones:la velocidad decrece con la den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1720" y="1205280"/>
            <a:ext cx="2040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20360" y="4034520"/>
            <a:ext cx="2309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1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30T04:05:21Z</dcterms:modified>
  <cp:revision>113</cp:revision>
  <dc:subject/>
  <dc:title>Sin título de diapositiva</dc:title>
</cp:coreProperties>
</file>