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9BC-7208-4D02-AEB1-953E64D9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559-5821-4EF8-94D3-89E31229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067-DB5C-427C-9A4D-777C15ED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A93-005A-46BE-8C64-E589934B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738-A1F7-4581-9203-AD867DD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D65-7DF4-433A-886D-8D4B9D9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56A-CAE4-4D03-8D2C-C7021D2F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F7C-772B-4508-ACA6-9C6A5DF3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125-2A85-4727-845D-345DF96E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D7C-F17B-4F2F-B57C-3539A2A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1CD-0189-4B93-A5B6-D58C963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FCD-46E6-4C20-B90A-26042DC7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D74D-1011-403A-BC6E-6AB9AF1E1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6400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42640" y="3429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14800" y="38095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8T04:02:38Z</dcterms:modified>
  <cp:revision>88</cp:revision>
  <dc:subject/>
  <dc:title>Sin título de diapositiva</dc:title>
</cp:coreProperties>
</file>