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ABA-75F8-4C16-B51B-8AD0DE40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D86-3BC3-4526-8882-6EA40CCF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64C-715A-43D5-8B7F-455A6B72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92D-3790-4B0F-8342-51E89AC0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483-C956-4AC2-8813-5279482A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1E5-FEFB-47FD-9D03-71DE31F1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C20-E9E7-4B00-BCD8-B393F712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2C1-77AE-4F89-A7EB-5996FF77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075-89BE-431C-8EA9-46025076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062-F6B0-4427-B252-FABAED1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3FF-5172-4A98-99D0-CA9D0622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185-5E9C-4A7E-B735-7E14B1E8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AF01-610B-42F4-B790-F5C239FB3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9144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Williams (1977) --&gt; agrupar alternativas “parecidas” en 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447920" y="18288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38080" y="3048120"/>
            <a:ext cx="1526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705720" y="1295280"/>
                <a:ext cx="18158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038480" y="3962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6019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sión a más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324480" y="2743200"/>
                <a:ext cx="2271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H="1">
            <a:off x="1828800" y="18288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3429000"/>
                <a:ext cx="213336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629400" y="5334120"/>
                <a:ext cx="205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 flipH="1">
            <a:off x="2057400" y="3200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32004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895480" y="32004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828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143000" y="44197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00200" y="44197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981080" y="44197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6400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42640" y="3429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14800" y="38095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8T04:02:38Z</dcterms:modified>
  <cp:revision>88</cp:revision>
  <dc:subject/>
  <dc:title>Sin título de diapositiva</dc:title>
</cp:coreProperties>
</file>