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7CF-8FF7-4A0C-9497-12C89E1B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FEB-BB9D-4F8D-8530-77EC18E0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DC3-7FDD-41C7-9D92-DCFDCB6F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A1B-8871-4E7F-9C66-113DF398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9B7-C9D5-452F-BBE4-E50676AC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D8B-3685-4FCE-B917-ACC93AF5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1BF-D4AC-4C7A-944A-4985D4F6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FB7-A3F4-4BCD-A031-A827B278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193-2486-4B12-9997-4484DB76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53A-DFFE-4880-846F-EDB85D5C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3C3-E4A5-4F63-8237-26310CD6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B62-8AD2-4998-B8F9-360CE8CA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6435-0B54-4DDF-BDBE-533CC5547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9144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Williams (1977) --&gt; agrupar alternativas “parecidas” en 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1600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447920" y="18288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838080" y="3048120"/>
            <a:ext cx="1526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705720" y="1295280"/>
                <a:ext cx="18158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038480" y="3962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60199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sión a más niv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324480" y="2743200"/>
                <a:ext cx="2271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H="1">
            <a:off x="1828800" y="18288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3429000"/>
                <a:ext cx="213336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629400" y="5334120"/>
                <a:ext cx="2057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 flipH="1">
            <a:off x="2057400" y="32004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32004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895480" y="32004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8288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143000" y="44197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600200" y="441972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981080" y="441972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6400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142640" y="3429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14800" y="38095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8T04:02:38Z</dcterms:modified>
  <cp:revision>88</cp:revision>
  <dc:subject/>
  <dc:title>Sin título de diapositiva</dc:title>
</cp:coreProperties>
</file>