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FF4-4789-4E18-9612-DDA2B4A4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8C3-8E25-401B-B2B7-C572300E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615-533E-4470-8165-55CA0E20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164A-6768-42C6-9A3C-7CE30E5F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C645-C2D3-4ECE-8205-18F38D82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A7A-CA59-4A79-9F65-3D2FB6E2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197-BEDB-4412-8D23-0BB6E2E8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8C67-4582-4A29-B7DA-83AB2731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6A5-5D78-4374-B9C2-5B840FB0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1AA-76A3-4729-AB6E-C4F45373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645-956E-4E55-9447-171706A9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C14C-91CA-4AEB-9605-6EE967B2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62EE-2ABA-44E0-954D-29478A441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91440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Williams (1977) --&gt; agrupar alternativas “parecidas” en 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1600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447920" y="182880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80880" y="3048120"/>
            <a:ext cx="6098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838080" y="3048120"/>
            <a:ext cx="1526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705720" y="1295280"/>
                <a:ext cx="18158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038480" y="39625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60199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ensión a más niv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324480" y="2743200"/>
                <a:ext cx="22719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H="1">
            <a:off x="1828800" y="182880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962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819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3429000"/>
                <a:ext cx="213336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629400" y="5334120"/>
                <a:ext cx="2057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 flipH="1">
            <a:off x="2057400" y="32004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600" y="320040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895480" y="320040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18288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143000" y="44197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600200" y="441972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981080" y="441972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36232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6400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142640" y="3429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114800" y="38095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28T04:02:38Z</dcterms:modified>
  <cp:revision>88</cp:revision>
  <dc:subject/>
  <dc:title>Sin título de diapositiva</dc:title>
</cp:coreProperties>
</file>