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04E-0741-4455-BD21-1C5BAC54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8FB2-F1B3-464D-B8BD-64267468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AD2-B7DD-4E42-86FE-C66E2786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A58F-3AFE-487D-9B0B-77524B24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55E2-78DE-4B94-A231-0B0A52A2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E45-16DE-4739-8326-9A0BC4BD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E339-DBD6-4A5A-A073-A5800BFC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D27-8B6D-41B3-B224-8E41CD0C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DEBD-453B-41F2-8C5A-D7F292D8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24B-FBFA-478B-BF4E-87DDAA03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BB3D-E58F-4A47-8EA2-A0FF28A0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5F9E-406E-4E43-80AE-D58931E1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E28F-C9C2-4E2B-95AE-93DFC6AA3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doja de los buses de co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828800"/>
            <a:ext cx="4496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aut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decide: pintar la mitad de los buses de color azul y la otra mitad de color ro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200400"/>
            <a:ext cx="7621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32004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066680" y="4267080"/>
            <a:ext cx="144792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4267080"/>
            <a:ext cx="1295280" cy="1295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638680"/>
            <a:ext cx="7621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us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57150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5638680"/>
            <a:ext cx="9144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us ro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4267080"/>
            <a:ext cx="76320" cy="1295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39680" y="4572000"/>
            <a:ext cx="203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azul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roj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aut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9144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Williams (1977) --&gt;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grupar alternativas “parecidas” en 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1828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2590920"/>
            <a:ext cx="7621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2004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80880" y="3048120"/>
            <a:ext cx="6098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419720"/>
            <a:ext cx="7621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4419720"/>
            <a:ext cx="9144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ro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30481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29718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factor de escala asociado al error del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590920"/>
            <a:ext cx="2666880" cy="99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553080" y="1600200"/>
                <a:ext cx="1981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52280" y="3962520"/>
            <a:ext cx="190512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3962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943600" y="3657600"/>
                <a:ext cx="21337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2666880" y="5105520"/>
            <a:ext cx="609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utilidad representativa del 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48120" y="5715000"/>
                <a:ext cx="2438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7924680" y="1676520"/>
            <a:ext cx="228600" cy="3045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2438280"/>
            <a:ext cx="2133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p: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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9625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29000" y="3352680"/>
                <a:ext cx="213372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04920" y="5562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6172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ni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292560" y="5054760"/>
                <a:ext cx="244008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33520" y="914400"/>
                <a:ext cx="304776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715000" y="1752480"/>
                <a:ext cx="205740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143000"/>
            <a:ext cx="807696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términos de los err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(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    (alternativas element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2514600"/>
            <a:ext cx="449604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+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914040" y="32767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809880"/>
            <a:ext cx="12956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ociado al nid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809880"/>
            <a:ext cx="190512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ociado a la alternativa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510552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Anal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Correlación perf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Correlación n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¿ </a:t>
            </a:r>
            <a:r>
              <a:rPr b="0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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= 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648320" y="4572000"/>
                <a:ext cx="14475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858000" y="4648320"/>
                <a:ext cx="14479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886200" y="3352680"/>
            <a:ext cx="121932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29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3505320"/>
            <a:ext cx="144756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 G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58672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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914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 examen recuperativo 99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33520" y="182880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276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57040" y="3048120"/>
            <a:ext cx="609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441972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o rut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419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o rut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30481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447920" y="182880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34290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2666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48320" y="4038480"/>
          <a:ext cx="9899640" cy="25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038480"/>
                    <a:ext cx="9899640" cy="25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419720" y="2057400"/>
          <a:ext cx="1005192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057400"/>
                    <a:ext cx="10051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562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23T08:32:04Z</dcterms:modified>
  <cp:revision>76</cp:revision>
  <dc:subject/>
  <dc:title>Sin título de diapositiva</dc:title>
</cp:coreProperties>
</file>