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F85-0540-4ABC-AD33-91E77584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9D6-013A-48F4-87CD-A88838AB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771-CF79-4B52-8225-E2A31E89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014-7687-4EEF-AB5C-471AFC68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CC7-0537-4D26-8506-A1F5F30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B3B-50FB-43C1-ABBA-F79BB45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228-2A7F-4CBF-A7CC-AAF2BB65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376-DD06-4428-8B47-AEE4D7B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0DD-CD16-4E3F-A2A1-978B444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EAC-4A50-4FB7-A065-579DDB8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BC0-14BB-4933-984A-D234FF1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CDE-07CD-4314-8BBF-E9706684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B0B-7704-4EE9-A1D4-2E05B9B70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3T08:32:04Z</dcterms:modified>
  <cp:revision>76</cp:revision>
  <dc:subject/>
  <dc:title>Sin título de diapositiva</dc:title>
</cp:coreProperties>
</file>