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B21-9F7F-4A92-BBE9-C1863D73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E58-ED33-4F8A-8185-893CF99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096-9776-4AE2-ABD4-2822F64D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058-F1F8-493C-AA24-0041A563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F56-4E4F-4E24-B4FE-51253F96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334-7EE1-41E8-886D-898548D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C01-3720-41A8-80F0-322BC59E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835-B345-4BAE-A6B9-B112C33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64F-C578-4D4B-8656-24461DC3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149-335C-4E58-A268-25E1E0E9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B00-2746-4B5B-95FE-7157877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5E9-BF8A-4A68-BA50-CAAAFC5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60C3-F450-4AD2-ADF1-6A545A20C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3T08:32:04Z</dcterms:modified>
  <cp:revision>76</cp:revision>
  <dc:subject/>
  <dc:title>Sin título de diapositiva</dc:title>
</cp:coreProperties>
</file>