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3CB-9737-41FC-8308-EDA4A148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A27-D096-4EED-9E1D-F25304F6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8E7-BF73-475B-8492-C0957D40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4F9-26DC-470E-8F36-ECF70F5F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B88-ED34-4AEA-87A4-2B32A638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0F7-9934-48AC-B57C-69667813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322-2ECF-40E1-AE33-524583F3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C07-4375-4E8A-816A-528D2062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E8C-6FBC-45C7-B912-C835B9B9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3D2-47CE-411A-9B0F-B6FE043B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3BA-4F8A-4B41-91D1-915278BE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112-CE55-4978-B1AD-EE5ACF73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AC8A-DB91-4806-8086-D703F6939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971800"/>
            <a:ext cx="4191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191120"/>
            <a:ext cx="99036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95880" y="36576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143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1143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209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886200" y="1905120"/>
                <a:ext cx="1447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1T07:34:48Z</dcterms:modified>
  <cp:revision>69</cp:revision>
  <dc:subject/>
  <dc:title>Sin título de diapositiva</dc:title>
</cp:coreProperties>
</file>