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4AC-D69C-4A89-9AE5-9C8CAC48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76E-589B-409E-B12D-A2ED4AE5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1C4-C8B4-42AA-890F-D481D6B0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B3B-0177-4A8E-8E84-4A9EEBCE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E64-B86A-40BF-9B91-C3853391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18F-2CE6-464F-B33B-9D77E79D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81D-E855-4AB8-BBDD-093C6B0D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B31-A9F5-4748-B4A6-32D7F34E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5D4-03EF-4AEA-8FBE-2A1EFA63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A76-58A3-48EA-92CE-E0E7DED7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E77-EEDF-46EC-8997-53C5F924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A3D-2389-4E32-AF77-2E2BC0A1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4AF4-2DAF-4C95-B104-4342829B9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971800"/>
            <a:ext cx="4191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91120"/>
            <a:ext cx="99036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95880" y="36576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143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143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209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886200" y="1905120"/>
                <a:ext cx="1447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1T07:34:48Z</dcterms:modified>
  <cp:revision>69</cp:revision>
  <dc:subject/>
  <dc:title>Sin título de diapositiva</dc:title>
</cp:coreProperties>
</file>