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76B2-2B9C-4D27-84D9-0CAA41740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5C40-666F-41E6-8E41-16CF00F0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F1AC-2BD4-4395-9A2E-611CD565F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610F-3603-4E65-BE77-EC560078B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FFAB-9E13-46C8-B37E-A63DB433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D8CE-A686-4F94-9B3A-94C990DB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4933-2D62-40FD-A8AE-923D89FA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D1DF-8F59-4ECE-96CD-678BF83D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27ED-9008-4DAF-A1D3-F406E6E6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6522-B646-43C8-BBB1-642B264F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F515-4FF5-4B73-8C60-8E169BDB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FE7B-F4AC-4643-9BC1-80C8693C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C6FC-4EAC-4E8B-B4AD-AE6C30AA4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ación de la Partición Mod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676520" y="33526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17524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2971800"/>
            <a:ext cx="4191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(para un cierto periodo -propósito-tipo de perso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4191120"/>
            <a:ext cx="990360" cy="609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54100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orción de usuarios que utiliza cada m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6095880" y="3657600"/>
                <a:ext cx="259092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1143000"/>
            <a:ext cx="800100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olviendo a la especificación de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D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S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CAM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croeconomía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447920" y="2971800"/>
                <a:ext cx="15494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S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mp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3657600" y="297180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uánto estoy dispuesto a pagar por ahorrarme un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44197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i, Q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49528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ariables socioeconómica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otras variables que describen al individu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greso, género, edad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11430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asticidades      ¿sig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2819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asticidad cruz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4495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álisis de sen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990720" y="1676520"/>
                <a:ext cx="26668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867280" y="1143000"/>
                <a:ext cx="259092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143000" y="3276720"/>
                <a:ext cx="289548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066680" y="5105520"/>
                <a:ext cx="18288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971800" y="5105520"/>
                <a:ext cx="13716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343400" y="5029200"/>
                <a:ext cx="2895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ΔP</m:t>
                    </m:r>
                    <m:r>
                      <m:t xml:space="preserve">≈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ΔX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1143000" y="61722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ena aproximación 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6019920"/>
            <a:ext cx="38862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es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 es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1143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probabilidad de elección  es individual ¿cómo agregar para realizar predicciones para una pob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685800" y="2057400"/>
                <a:ext cx="175248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 flipH="1" flipV="1">
            <a:off x="3886200" y="2209320"/>
            <a:ext cx="1440" cy="358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7913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05320" y="2514600"/>
            <a:ext cx="4343400" cy="3225960"/>
          </a:xfrm>
          <a:custGeom>
            <a:avLst/>
            <a:gdLst/>
            <a:ahLst/>
            <a:rect l="l" t="t" r="r" b="b"/>
            <a:pathLst>
              <a:path w="1824" h="1504">
                <a:moveTo>
                  <a:pt x="0" y="1496"/>
                </a:moveTo>
                <a:cubicBezTo>
                  <a:pt x="72" y="1500"/>
                  <a:pt x="144" y="1504"/>
                  <a:pt x="240" y="1496"/>
                </a:cubicBezTo>
                <a:cubicBezTo>
                  <a:pt x="336" y="1488"/>
                  <a:pt x="480" y="1496"/>
                  <a:pt x="576" y="1448"/>
                </a:cubicBezTo>
                <a:cubicBezTo>
                  <a:pt x="672" y="1400"/>
                  <a:pt x="752" y="1312"/>
                  <a:pt x="816" y="1208"/>
                </a:cubicBezTo>
                <a:cubicBezTo>
                  <a:pt x="880" y="1104"/>
                  <a:pt x="920" y="944"/>
                  <a:pt x="960" y="824"/>
                </a:cubicBezTo>
                <a:cubicBezTo>
                  <a:pt x="1000" y="704"/>
                  <a:pt x="1024" y="584"/>
                  <a:pt x="1056" y="488"/>
                </a:cubicBezTo>
                <a:cubicBezTo>
                  <a:pt x="1088" y="392"/>
                  <a:pt x="1104" y="320"/>
                  <a:pt x="1152" y="248"/>
                </a:cubicBezTo>
                <a:cubicBezTo>
                  <a:pt x="1200" y="176"/>
                  <a:pt x="1272" y="96"/>
                  <a:pt x="1344" y="56"/>
                </a:cubicBezTo>
                <a:cubicBezTo>
                  <a:pt x="1416" y="16"/>
                  <a:pt x="1504" y="16"/>
                  <a:pt x="1584" y="8"/>
                </a:cubicBezTo>
                <a:cubicBezTo>
                  <a:pt x="1664" y="0"/>
                  <a:pt x="1744" y="4"/>
                  <a:pt x="1824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2133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296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5715000"/>
            <a:ext cx="0" cy="76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4340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91320" y="4267080"/>
            <a:ext cx="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6272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885840" y="5715000"/>
            <a:ext cx="60948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541008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886200" y="4267080"/>
            <a:ext cx="190512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40384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181480" y="5791320"/>
            <a:ext cx="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624852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181480" y="5409720"/>
            <a:ext cx="0" cy="381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886200" y="5410080"/>
            <a:ext cx="12952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54100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5257800"/>
            <a:ext cx="205740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{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09320" y="49528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4648320"/>
            <a:ext cx="144756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733920"/>
            <a:ext cx="0" cy="12189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590920" y="541008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35812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sgo de agre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3733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foque ino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495680" y="3733920"/>
                <a:ext cx="198144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914400" y="4724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umeración mue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572000" y="4495680"/>
                <a:ext cx="21337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914400" y="5638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038480" y="5562720"/>
                <a:ext cx="24386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  <m:r>
                          <m:t xml:space="preserve">∈</m:t>
                        </m:r>
                        <m:r>
                          <m:t xml:space="preserve">Q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457200" y="11430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ón de mercado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2743200"/>
            <a:ext cx="7696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blema: necesitamos calcular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a toda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09480" y="1523880"/>
          <a:ext cx="13106520" cy="106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131065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1295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rma Incremental del modelo Lo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90720" y="2133720"/>
                <a:ext cx="167616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124080" y="2057400"/>
                <a:ext cx="18288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f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f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410080" y="2057400"/>
                <a:ext cx="22860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80010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066680" y="3809880"/>
                <a:ext cx="228600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4419720" y="3962520"/>
            <a:ext cx="4114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necesitamos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ambios propuestos y sensibilidad a esos cambios para pivotear en torno a la situación act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imación del modelo Logi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3733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17524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8195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=&gt;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286000" y="1676520"/>
                <a:ext cx="44956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t xml:space="preserve">q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lige</m:t>
                              </m:r>
                              <m:r>
                                <m:t xml:space="preserve"> </m:t>
                              </m:r>
                              <m:r>
                                <m:t xml:space="preserve">j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no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743200" y="2679840"/>
                <a:ext cx="25146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712880" y="4286160"/>
                <a:ext cx="5259600" cy="11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1143000" y="56386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l modelo reproduce las particiones de mercado observ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11430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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g(pro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4343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0): log verosimilitud del modelo equiprob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*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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log verosimilitud del modelo estim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1143000"/>
            <a:ext cx="37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áximo teórico = 0 , nunca se alc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22096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adígraf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54100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C): log verosimilitud del modelo sólo constantes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(reproduce las particiones de mercado observ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886200" y="1905120"/>
                <a:ext cx="144792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914400" y="3352680"/>
                <a:ext cx="20574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191120" y="3352680"/>
                <a:ext cx="20574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09-21T07:34:48Z</dcterms:modified>
  <cp:revision>69</cp:revision>
  <dc:subject/>
  <dc:title>Sin título de diapositiva</dc:title>
</cp:coreProperties>
</file>