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877FC-8392-4DAC-977A-44F46BBFA4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26C0B-C70D-4A9A-AF10-AF260FD0D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4B274-8802-4323-8BFC-610AE5990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FDA2A-F26F-423B-A009-5D6976EA2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9DD7B-DBC3-4C4E-BF9E-D0D231764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4FF5-4089-4B19-ACB3-B5EAB62A4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C949A-C3C6-4E70-9ABA-B82919B27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B533-B902-4296-AF71-3EC13C4FEE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E14EA-3905-456E-98C2-D31AEDC1C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04649-8529-45B5-936A-DDACDFDD0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5AE85-5BF3-42E1-8324-316D9420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74AD5-BD5F-4B64-A477-0117CB21D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5C2CD-A607-4B78-840C-070F4F77C0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7621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ación de la Partición Modal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280" y="152280"/>
            <a:ext cx="662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cc"/>
                </a:solidFill>
                <a:latin typeface="Comic Sans MS"/>
              </a:rPr>
              <a:t>CI43A Análisis de Sistemas de Transporte: Clase 1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>
            <a:off x="1676520" y="33526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124080" y="18288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95480" y="17524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352680" y="23623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95480" y="2971800"/>
            <a:ext cx="419112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{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} (para un cierto periodo -propósito-tipo de person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276720" y="42670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048120" y="4191120"/>
            <a:ext cx="990360" cy="60948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505320" y="48006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048120" y="5410080"/>
            <a:ext cx="3886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roporción de usuarios que utiliza cada mo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"/>
              <p:cNvSpPr txBox="1"/>
              <p:nvPr/>
            </p:nvSpPr>
            <p:spPr>
              <a:xfrm>
                <a:off x="6095880" y="36576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914400" y="1143000"/>
            <a:ext cx="800100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olviendo a la especificación de V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=Cte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DV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ES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CAM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+</a:t>
            </a:r>
            <a:r>
              <a:rPr b="0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4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icroeconomía ==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2" name=""/>
              <p:cNvSpPr txBox="1"/>
              <p:nvPr/>
            </p:nvSpPr>
            <p:spPr>
              <a:xfrm>
                <a:off x="1447920" y="2971800"/>
                <a:ext cx="154944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VS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mpo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s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to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73" name=""/>
          <p:cNvSpPr/>
          <p:nvPr/>
        </p:nvSpPr>
        <p:spPr>
          <a:xfrm>
            <a:off x="3657600" y="2971800"/>
            <a:ext cx="502920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Cuánto estoy dispuesto a pagar por ahorrarme un minu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iscuti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914400" y="44197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riable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124080" y="4419720"/>
            <a:ext cx="198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i, Q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914400" y="4952880"/>
            <a:ext cx="73915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Variables socioeconómicas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¿otras variables que describen al individuo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greso, género, edad, 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14400" y="1143000"/>
            <a:ext cx="80010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lasticidades      ¿sig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990720" y="2819520"/>
            <a:ext cx="396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lasticidad cruzad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990720" y="44956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nálisis de sensibili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990720" y="1676520"/>
                <a:ext cx="2666880" cy="107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i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5867280" y="1143000"/>
                <a:ext cx="2590920" cy="1990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1143000" y="3276720"/>
                <a:ext cx="2895480" cy="1164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sub>
                      <m:sup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den>
                    </m:f>
                    <m:f>
                      <m:num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jq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q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1066680" y="5105520"/>
                <a:ext cx="1828800" cy="855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r>
                          <m:t xml:space="preserve">∂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∂</m:t>
                        </m:r>
                        <m:r>
                          <m:t xml:space="preserve">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2971800" y="5105520"/>
                <a:ext cx="1371600" cy="84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ΔP</m:t>
                        </m:r>
                      </m:num>
                      <m:den>
                        <m:r>
                          <m:t xml:space="preserve">ΔX</m:t>
                        </m:r>
                      </m:den>
                    </m:f>
                    <m:r>
                      <m:t xml:space="preserve">⋅</m:t>
                    </m:r>
                    <m:f>
                      <m:num>
                        <m:r>
                          <m:t xml:space="preserve">X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343400" y="5029200"/>
                <a:ext cx="2895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⇒</m:t>
                    </m:r>
                    <m:r>
                      <m:t xml:space="preserve">ΔP</m:t>
                    </m:r>
                    <m:r>
                      <m:t xml:space="preserve">≈</m:t>
                    </m:r>
                    <m:sSubSup>
                      <m:e>
                        <m:r>
                          <m:t xml:space="preserve">E</m:t>
                        </m:r>
                      </m:e>
                      <m:sub>
                        <m:r>
                          <m:t xml:space="preserve">X</m:t>
                        </m:r>
                      </m:sub>
                      <m:sup>
                        <m:r>
                          <m:t xml:space="preserve">P</m:t>
                        </m:r>
                      </m:sup>
                    </m:sSubSup>
                    <m:r>
                      <m:t xml:space="preserve">⋅</m:t>
                    </m:r>
                    <m:r>
                      <m:t xml:space="preserve">ΔX</m:t>
                    </m:r>
                    <m:r>
                      <m:t xml:space="preserve">⋅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X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1143000" y="6172200"/>
            <a:ext cx="3505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Buena aproximación s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029200" y="6019920"/>
            <a:ext cx="388620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X es pequeñ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i es lin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14400" y="1143000"/>
            <a:ext cx="800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probabilidad de elección  es individual ¿cómo agregar para realizar predicciones para una pobl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685800" y="2057400"/>
                <a:ext cx="175248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nary>
                              <m:naryPr>
                                <m:chr m:val="∑"/>
                                <m:supHide m:val="1"/>
                              </m:naryPr>
                              <m:sub>
                                <m:r>
                                  <m:t xml:space="preserve">k</m:t>
                                </m:r>
                              </m:sub>
                              <m:sup/>
                              <m:e>
                                <m:sSub>
                                  <m:e>
                                    <m:r>
                                      <m:t xml:space="preserve">θ</m:t>
                                    </m:r>
                                  </m:e>
                                  <m:sub>
                                    <m:r>
                                      <m:t xml:space="preserve">k</m:t>
                                    </m:r>
                                  </m:sub>
                                </m:sSub>
                                <m:sSub>
                                  <m:e>
                                    <m:r>
                                      <m:t xml:space="preserve">X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kiq</m:t>
                                    </m:r>
                                  </m:sub>
                                </m:sSub>
                              </m:e>
                            </m:nary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  <m:r>
                              <m:t xml:space="preserve">∈</m:t>
                            </m:r>
                            <m:sSub>
                              <m:e>
                                <m:r>
                                  <m:t xml:space="preserve">A</m:t>
                                </m:r>
                              </m:e>
                              <m:sub>
                                <m:r>
                                  <m:t xml:space="preserve">q</m:t>
                                </m:r>
                              </m:sub>
                            </m:sSub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nary>
                                  <m:naryPr>
                                    <m:chr m:val="∑"/>
                                    <m:supHide m:val="1"/>
                                  </m:naryPr>
                                  <m:sub>
                                    <m:r>
                                      <m:t xml:space="preserve">k</m:t>
                                    </m:r>
                                  </m:sub>
                                  <m:sup/>
                                  <m:e>
                                    <m:sSub>
                                      <m:e>
                                        <m:r>
                                          <m:t xml:space="preserve">θ</m:t>
                                        </m:r>
                                      </m:e>
                                      <m:sub>
                                        <m:r>
                                          <m:t xml:space="preserve">k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X</m:t>
                                        </m:r>
                                      </m:e>
                                      <m:sub>
                                        <m:r>
                                          <m:rPr>
                                            <m:lit/>
                                            <m:nor/>
                                          </m:rPr>
                                          <m:t xml:space="preserve">kjq</m:t>
                                        </m:r>
                                      </m:sub>
                                    </m:sSub>
                                  </m:e>
                                </m:nary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 flipH="1" flipV="1">
            <a:off x="3886200" y="2209320"/>
            <a:ext cx="1440" cy="358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886200" y="5791320"/>
            <a:ext cx="457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3505320" y="2514600"/>
            <a:ext cx="4343400" cy="3225960"/>
          </a:xfrm>
          <a:custGeom>
            <a:avLst/>
            <a:gdLst/>
            <a:ahLst/>
            <a:rect l="l" t="t" r="r" b="b"/>
            <a:pathLst>
              <a:path w="1824" h="1504">
                <a:moveTo>
                  <a:pt x="0" y="1496"/>
                </a:moveTo>
                <a:cubicBezTo>
                  <a:pt x="72" y="1500"/>
                  <a:pt x="144" y="1504"/>
                  <a:pt x="240" y="1496"/>
                </a:cubicBezTo>
                <a:cubicBezTo>
                  <a:pt x="336" y="1488"/>
                  <a:pt x="480" y="1496"/>
                  <a:pt x="576" y="1448"/>
                </a:cubicBezTo>
                <a:cubicBezTo>
                  <a:pt x="672" y="1400"/>
                  <a:pt x="752" y="1312"/>
                  <a:pt x="816" y="1208"/>
                </a:cubicBezTo>
                <a:cubicBezTo>
                  <a:pt x="880" y="1104"/>
                  <a:pt x="920" y="944"/>
                  <a:pt x="960" y="824"/>
                </a:cubicBezTo>
                <a:cubicBezTo>
                  <a:pt x="1000" y="704"/>
                  <a:pt x="1024" y="584"/>
                  <a:pt x="1056" y="488"/>
                </a:cubicBezTo>
                <a:cubicBezTo>
                  <a:pt x="1088" y="392"/>
                  <a:pt x="1104" y="320"/>
                  <a:pt x="1152" y="248"/>
                </a:cubicBezTo>
                <a:cubicBezTo>
                  <a:pt x="1200" y="176"/>
                  <a:pt x="1272" y="96"/>
                  <a:pt x="1344" y="56"/>
                </a:cubicBezTo>
                <a:cubicBezTo>
                  <a:pt x="1416" y="16"/>
                  <a:pt x="1504" y="16"/>
                  <a:pt x="1584" y="8"/>
                </a:cubicBezTo>
                <a:cubicBezTo>
                  <a:pt x="1664" y="0"/>
                  <a:pt x="1744" y="4"/>
                  <a:pt x="1824" y="8"/>
                </a:cubicBezTo>
              </a:path>
            </a:pathLst>
          </a:cu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352680" y="213372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229600" y="594360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5680" y="5715000"/>
            <a:ext cx="0" cy="76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434340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791320" y="4267080"/>
            <a:ext cx="0" cy="15242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562720" y="5715000"/>
            <a:ext cx="685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flipH="1">
            <a:off x="3885840" y="5715000"/>
            <a:ext cx="60948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895480" y="5410080"/>
            <a:ext cx="10670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>
            <a:off x="3886200" y="4267080"/>
            <a:ext cx="1905120" cy="0"/>
          </a:xfrm>
          <a:prstGeom prst="line">
            <a:avLst/>
          </a:prstGeom>
          <a:ln w="1908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971800" y="4038480"/>
            <a:ext cx="10666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5181480" y="5791320"/>
            <a:ext cx="0" cy="45720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572000" y="6248520"/>
            <a:ext cx="17524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 flipV="1">
            <a:off x="5181480" y="5409720"/>
            <a:ext cx="0" cy="38124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3886200" y="5410080"/>
            <a:ext cx="129528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209680" y="54100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52280" y="5257800"/>
            <a:ext cx="205740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{(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V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2209320" y="4952880"/>
            <a:ext cx="1676520" cy="0"/>
          </a:xfrm>
          <a:prstGeom prst="line">
            <a:avLst/>
          </a:prstGeom>
          <a:ln w="284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762120" y="4648320"/>
            <a:ext cx="1447560" cy="5101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+P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733920"/>
            <a:ext cx="0" cy="121896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2590920" y="5410080"/>
            <a:ext cx="0" cy="457200"/>
          </a:xfrm>
          <a:prstGeom prst="line">
            <a:avLst/>
          </a:prstGeom>
          <a:ln w="5724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152280" y="3581280"/>
            <a:ext cx="243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Sesgo de agreg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838080" y="373392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nfoque inoc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8" name=""/>
              <p:cNvSpPr txBox="1"/>
              <p:nvPr/>
            </p:nvSpPr>
            <p:spPr>
              <a:xfrm>
                <a:off x="4495680" y="3733920"/>
                <a:ext cx="1981440" cy="55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acc>
                          <m:accPr>
                            <m:chr m:val="¯"/>
                          </m:accPr>
                          <m:e>
                            <m:r>
                              <m:t xml:space="preserve">X</m:t>
                            </m:r>
                          </m:e>
                        </m:acc>
                      </m:e>
                      <m:sub>
                        <m:r>
                          <m:t xml:space="preserve">Q</m:t>
                        </m:r>
                      </m:sub>
                    </m:sSub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9" name=""/>
          <p:cNvSpPr/>
          <p:nvPr/>
        </p:nvSpPr>
        <p:spPr>
          <a:xfrm>
            <a:off x="914400" y="4724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numeración muestr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0" name=""/>
              <p:cNvSpPr txBox="1"/>
              <p:nvPr/>
            </p:nvSpPr>
            <p:spPr>
              <a:xfrm>
                <a:off x="4572000" y="4495680"/>
                <a:ext cx="2133720" cy="1005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N</m:t>
                        </m:r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j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1" name=""/>
          <p:cNvSpPr/>
          <p:nvPr/>
        </p:nvSpPr>
        <p:spPr>
          <a:xfrm>
            <a:off x="914400" y="56386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asific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4038480" y="5562720"/>
                <a:ext cx="2438640" cy="86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nary>
                      <m:naryPr>
                        <m:chr m:val="∑"/>
                        <m:supHide m:val="1"/>
                      </m:naryPr>
                      <m:sub>
                        <m:r>
                          <m:t xml:space="preserve">c</m:t>
                        </m:r>
                        <m:r>
                          <m:t xml:space="preserve">∈</m:t>
                        </m:r>
                        <m:r>
                          <m:t xml:space="preserve">Q</m:t>
                        </m:r>
                      </m:sub>
                      <m:sup/>
                      <m:e>
                        <m:f>
                          <m:num>
                            <m:sSub>
                              <m:e>
                                <m:r>
                                  <m:t xml:space="preserve">Q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23" name=""/>
          <p:cNvSpPr/>
          <p:nvPr/>
        </p:nvSpPr>
        <p:spPr>
          <a:xfrm>
            <a:off x="457200" y="114300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Partición de mercado agregad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9480" y="2743200"/>
            <a:ext cx="7696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roblema: necesitamos calcular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jq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para toda la pobl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609480" y="1523880"/>
          <a:ext cx="13106520" cy="1067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9480" y="1523880"/>
                    <a:ext cx="131065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62120" y="1295280"/>
            <a:ext cx="739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orma Incremental del modelo Lo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990720" y="2133720"/>
                <a:ext cx="1676160" cy="1346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0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0" name=""/>
              <p:cNvSpPr txBox="1"/>
              <p:nvPr/>
            </p:nvSpPr>
            <p:spPr>
              <a:xfrm>
                <a:off x="3124080" y="2057400"/>
                <a:ext cx="1828800" cy="1419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f</m:t>
                                </m:r>
                              </m:sup>
                            </m:sSubSup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f</m:t>
                                    </m:r>
                                  </m:sup>
                                </m:sSubSup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31" name=""/>
              <p:cNvSpPr txBox="1"/>
              <p:nvPr/>
            </p:nvSpPr>
            <p:spPr>
              <a:xfrm>
                <a:off x="5410080" y="2057400"/>
                <a:ext cx="2286000" cy="1417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Sup>
                              <m:e>
                                <m:r>
                                  <m:t xml:space="preserve">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r>
                              <m:t xml:space="preserve">+</m:t>
                            </m:r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  <m:sup>
                                    <m:r>
                                      <m:t xml:space="preserve">0</m:t>
                                    </m:r>
                                  </m:sup>
                                </m:sSubSup>
                                <m:r>
                                  <m:t xml:space="preserve">+</m:t>
                                </m:r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2" name=""/>
          <p:cNvSpPr/>
          <p:nvPr/>
        </p:nvSpPr>
        <p:spPr>
          <a:xfrm>
            <a:off x="8001000" y="2362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33" name=""/>
              <p:cNvSpPr txBox="1"/>
              <p:nvPr/>
            </p:nvSpPr>
            <p:spPr>
              <a:xfrm>
                <a:off x="1066680" y="3809880"/>
                <a:ext cx="2286000" cy="132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i</m:t>
                        </m:r>
                      </m:sub>
                      <m:sup>
                        <m:r>
                          <m:t xml:space="preserve">f</m:t>
                        </m:r>
                      </m:sup>
                    </m:sSub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  <m:sup>
                            <m:r>
                              <m:t xml:space="preserve">0</m:t>
                            </m:r>
                          </m:sup>
                        </m:sSubSup>
                        <m:sSup>
                          <m:e>
                            <m:r>
                              <m:t xml:space="preserve">e</m:t>
                            </m:r>
                          </m:e>
                          <m:sup>
                            <m:sSub>
                              <m:e>
                                <m:r>
                                  <m:t xml:space="preserve">ΔV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</m:sup>
                        </m:sSup>
                      </m:num>
                      <m:den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t xml:space="preserve">j</m:t>
                                </m:r>
                              </m:sub>
                              <m:sup>
                                <m:r>
                                  <m:t xml:space="preserve">0</m:t>
                                </m:r>
                              </m:sup>
                            </m:sSubSup>
                            <m:sSup>
                              <m:e>
                                <m:r>
                                  <m:t xml:space="preserve">e</m:t>
                                </m:r>
                              </m:e>
                              <m:sup>
                                <m:sSub>
                                  <m:e>
                                    <m:r>
                                      <m:t xml:space="preserve">ΔV</m:t>
                                    </m:r>
                                  </m:e>
                                  <m:sub>
                                    <m:r>
                                      <m:t xml:space="preserve">j</m:t>
                                    </m:r>
                                  </m:sub>
                                </m:sSub>
                              </m:sup>
                            </m:s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34" name=""/>
          <p:cNvSpPr/>
          <p:nvPr/>
        </p:nvSpPr>
        <p:spPr>
          <a:xfrm>
            <a:off x="4419720" y="3962520"/>
            <a:ext cx="4114800" cy="197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ólo necesitamos P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 baseline="30000">
                <a:solidFill>
                  <a:srgbClr val="000000"/>
                </a:solidFill>
                <a:latin typeface="Comic Sans MS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, cambios propuestos y sensibilidad a esos cambios para pivotear en torno a la situación actu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914400" y="1143000"/>
            <a:ext cx="800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imación del modelo Logit sim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37339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e puede demostrar 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7524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90720" y="28195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&lt;==&gt; 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2286000" y="1676520"/>
                <a:ext cx="4495680" cy="81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∏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∏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  <m:sup>
                                <m:sSub>
                                  <m:e>
                                    <m:r>
                                      <m:t xml:space="preserve">δ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jq</m:t>
                                    </m:r>
                                  </m:sub>
                                </m:sSub>
                              </m:sup>
                            </m:sSubSup>
                          </m:e>
                        </m:nary>
                      </m:e>
                    </m:nary>
                    <m:r>
                      <m:t xml:space="preserve"> </m:t>
                    </m:r>
                    <m:sSub>
                      <m:e>
                        <m:r>
                          <m:t xml:space="preserve">δ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jq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{"/>
                        <m:endChr m:val=""/>
                      </m:dPr>
                      <m:e>
                        <m:m>
                          <m:mr>
                            <m:e>
                              <m:r>
                                <m:t xml:space="preserve">1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t xml:space="preserve">q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elige</m:t>
                              </m:r>
                              <m:r>
                                <m:t xml:space="preserve"> </m:t>
                              </m:r>
                              <m:r>
                                <m:t xml:space="preserve">j</m:t>
                              </m:r>
                            </m:e>
                          </m:mr>
                          <m:mr>
                            <m:e>
                              <m:r>
                                <m:t xml:space="preserve">0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si</m:t>
                              </m:r>
                              <m:r>
                                <m:t xml:space="preserve"> </m:t>
                              </m:r>
                              <m:r>
                                <m:rPr>
                                  <m:lit/>
                                  <m:nor/>
                                </m:rPr>
                                <m:t xml:space="preserve">no</m:t>
                              </m:r>
                              <m:r>
                                <m:t xml:space="preserve"> 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2743200" y="2679840"/>
                <a:ext cx="2514600" cy="834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l</m:t>
                    </m:r>
                    <m:r>
                      <m:t xml:space="preserve">(</m:t>
                    </m:r>
                    <m:r>
                      <m:t xml:space="preserve">θ</m:t>
                    </m:r>
                    <m:r>
                      <m:t xml:space="preserve">)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j</m:t>
                            </m:r>
                          </m:sub>
                          <m:sup/>
                          <m:e>
                            <m:sSub>
                              <m:e>
                                <m:r>
                                  <m:t xml:space="preserve">δ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  <m:r>
                              <m:rPr>
                                <m:lit/>
                                <m:nor/>
                              </m:rPr>
                              <m:t xml:space="preserve">ln</m:t>
                            </m:r>
                            <m:sSub>
                              <m:e>
                                <m:r>
                                  <m:t xml:space="preserve">P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jq</m:t>
                                </m:r>
                              </m:sub>
                            </m:sSub>
                          </m:e>
                        </m:nary>
                      </m:e>
                    </m:nary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1712880" y="4286160"/>
                <a:ext cx="5259600" cy="119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∂</m:t>
                        </m:r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∂</m:t>
                        </m:r>
                        <m:sSub>
                          <m:e>
                            <m:r>
                              <m:t xml:space="preserve">θ</m:t>
                            </m:r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r>
                      <m:t xml:space="preserve">0</m:t>
                    </m:r>
                    <m:r>
                      <m:t xml:space="preserve"> </m:t>
                    </m:r>
                    <m:r>
                      <m:t xml:space="preserve">⇒</m:t>
                    </m:r>
                    <m:r>
                      <m:t xml:space="preserve"> 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δ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q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aq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1143000" y="5638680"/>
            <a:ext cx="7391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Comic Sans MS"/>
              </a:rPr>
              <a:t>El modelo reproduce las particiones de mercado observ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45720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3300"/>
                </a:solidFill>
                <a:latin typeface="Comic Sans MS"/>
              </a:rPr>
              <a:t>Modelación de la Partición Modal: Modelo Logit Multinomi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914400" y="11430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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og(prob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38080" y="4343400"/>
            <a:ext cx="73915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0): log verosimilitud del modelo equiprob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*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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 log verosimilitud del modelo estima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962520" y="1143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áximo teórico = 0 , nunca se alcanz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990720" y="220968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stadígraf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38080" y="5410080"/>
            <a:ext cx="7925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l(C): log verosimilitud del modelo sólo constantes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 (reproduce las particiones de mercado observad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0" name=""/>
              <p:cNvSpPr txBox="1"/>
              <p:nvPr/>
            </p:nvSpPr>
            <p:spPr>
              <a:xfrm>
                <a:off x="3886200" y="1905120"/>
                <a:ext cx="1447920" cy="1333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sSub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θ</m:t>
                                </m:r>
                              </m:e>
                            </m:acc>
                          </m:e>
                          <m:sub>
                            <m:r>
                              <m:t xml:space="preserve">k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σ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kk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914400" y="3352680"/>
                <a:ext cx="2057400" cy="928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ρ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0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2" name=""/>
              <p:cNvSpPr txBox="1"/>
              <p:nvPr/>
            </p:nvSpPr>
            <p:spPr>
              <a:xfrm>
                <a:off x="4191120" y="3352680"/>
                <a:ext cx="2057400" cy="930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Sup>
                      <m:e>
                        <m:r>
                          <m:t xml:space="preserve">ρ</m:t>
                        </m:r>
                      </m:e>
                      <m:sub>
                        <m:r>
                          <m:t xml:space="preserve">C</m:t>
                        </m:r>
                      </m:sub>
                      <m:sup>
                        <m:r>
                          <m:t xml:space="preserve">2</m:t>
                        </m:r>
                      </m:sup>
                    </m:sSubSup>
                    <m:r>
                      <m:t xml:space="preserve">=</m:t>
                    </m:r>
                    <m:r>
                      <m:t xml:space="preserve">1</m:t>
                    </m:r>
                    <m:r>
                      <m:t xml:space="preserve">−</m:t>
                    </m:r>
                    <m:f>
                      <m:num>
                        <m:r>
                          <m:t xml:space="preserve">l</m:t>
                        </m:r>
                        <m:r>
                          <m:t xml:space="preserve">∗</m:t>
                        </m:r>
                        <m:r>
                          <m:t xml:space="preserve">(</m:t>
                        </m:r>
                        <m:r>
                          <m:t xml:space="preserve">θ</m:t>
                        </m:r>
                        <m:r>
                          <m:t xml:space="preserve">)</m:t>
                        </m:r>
                      </m:num>
                      <m:den>
                        <m:r>
                          <m:t xml:space="preserve">l</m:t>
                        </m:r>
                        <m:r>
                          <m:t xml:space="preserve">(</m:t>
                        </m:r>
                        <m:r>
                          <m:t xml:space="preserve">C</m:t>
                        </m:r>
                        <m:r>
                          <m:t xml:space="preserve">)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4T01:13:12Z</dcterms:created>
  <dc:creator>Marcela Munizaga</dc:creator>
  <dc:description/>
  <dc:language>en-US</dc:language>
  <cp:lastModifiedBy>Marcela Munizaga</cp:lastModifiedBy>
  <dcterms:modified xsi:type="dcterms:W3CDTF">2004-09-21T07:34:48Z</dcterms:modified>
  <cp:revision>69</cp:revision>
  <dc:subject/>
  <dc:title>Sin título de diapositiva</dc:title>
</cp:coreProperties>
</file>