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E4E-2D55-47B1-97D8-9C99A440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176-D330-48C2-A2D8-7C54C21A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4717-47E2-447D-B24A-0D5EAA95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BA9-5FB1-4078-9B2D-F7C6E5E3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CE3-5E4D-444B-A500-C841F005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4BB-4FC9-4CA2-B100-20AD142A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36B-63C4-4FCA-8B94-833C15C2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653-FDDF-41EC-BA34-EE986A27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AFB-EEBA-47D8-92B8-7DA2AA6F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22A-8DBB-4B5D-8422-45EF323F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DCF-767F-4A8F-BA4F-F6E5EBD8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9BF-7105-4F43-AF22-C6186295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EB8E-91F0-442E-8993-01A5BFD75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2971800"/>
            <a:ext cx="4191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191120"/>
            <a:ext cx="99036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095880" y="36576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olviendo a la 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143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1143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209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886200" y="1905120"/>
                <a:ext cx="14479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21T07:34:48Z</dcterms:modified>
  <cp:revision>69</cp:revision>
  <dc:subject/>
  <dc:title>Sin título de diapositiva</dc:title>
</cp:coreProperties>
</file>