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28DB6-52EE-4675-8239-412C3A355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E3896-4BA3-474D-A612-3B30310A9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DBA66-B9A4-407B-AB00-1EA09F2AE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11873-37C0-466B-B135-ABBF21676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D4136-249E-4315-BA75-51FEE4C3F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C0572-AB51-4327-860B-E1CDBB71F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0456D-92CA-4427-A446-A8BE32F41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133DF-D36C-49FC-9E9C-62F0A4D11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01310-F027-4214-97AA-F0DC8ECDC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EB6D6-DE9E-43D3-940E-C329DBC4F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1072E-6677-457D-97DA-D98C91902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141AC-FFDE-436E-85CF-854FC4E2C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FC432-021F-4470-BB01-C9BE73CEEA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7621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Modelación de la Partición Mod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52280" y="15228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CI43A Análisis de Sistemas de Transporte: Clase 1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990720" y="22096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90720" y="3200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990720" y="4343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066680" y="5486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38080" y="2133720"/>
            <a:ext cx="83844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38080" y="3124080"/>
            <a:ext cx="83844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62120" y="4267080"/>
            <a:ext cx="990360" cy="60984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38080" y="5410080"/>
            <a:ext cx="99072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2743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219320" y="37339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219320" y="48769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828800" y="5715000"/>
            <a:ext cx="6858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2514600" y="4647960"/>
            <a:ext cx="0" cy="10666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1752120" y="4648320"/>
            <a:ext cx="76212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2514600" y="3428640"/>
            <a:ext cx="0" cy="12193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2514600" y="2438280"/>
            <a:ext cx="0" cy="9907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1676520" y="3352680"/>
            <a:ext cx="838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1676520" y="2438280"/>
            <a:ext cx="838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124080" y="18288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95480" y="1752480"/>
            <a:ext cx="83844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352680" y="23623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95480" y="2971800"/>
            <a:ext cx="41911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{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} (para un cierto periodo -propósito-tipo de person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276720" y="42670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48120" y="4191120"/>
            <a:ext cx="990360" cy="6094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505320" y="48006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048120" y="5410080"/>
            <a:ext cx="3886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oporción de usuarios que utiliza cada mo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6095880" y="3657600"/>
                <a:ext cx="2590920" cy="199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q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k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θ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kiq</m:t>
                                    </m:r>
                                  </m:sub>
                                </m:sSub>
                              </m:e>
                            </m:nary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q</m:t>
                                </m:r>
                              </m:sub>
                            </m:sSub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k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θ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kjq</m:t>
                                        </m:r>
                                      </m:sub>
                                    </m:sSub>
                                  </m:e>
                                </m:nary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Modelo Logit Multinom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914400" y="1143000"/>
            <a:ext cx="8001000" cy="16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Volviendo a la especificación de V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Cte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D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ESP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CAM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st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icroeconomía ==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1447920" y="2971800"/>
                <a:ext cx="1549440" cy="87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ST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iempo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to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3" name=""/>
          <p:cNvSpPr/>
          <p:nvPr/>
        </p:nvSpPr>
        <p:spPr>
          <a:xfrm>
            <a:off x="3657600" y="2971800"/>
            <a:ext cx="50292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uánto estoy dispuesto a pagar por ahorrarme un minu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scuti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14400" y="441972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ariabl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124080" y="441972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i, Q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914400" y="4952880"/>
            <a:ext cx="73915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Variables socioeconómicas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otras variables que describen al individuo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greso, género, edad,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Modelo Logit Multinom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14400" y="1143000"/>
            <a:ext cx="80010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lasticidades      ¿sign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990720" y="2819520"/>
            <a:ext cx="39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lasticidad cruzad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990720" y="4495680"/>
            <a:ext cx="73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nálisis de sensib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990720" y="1676520"/>
                <a:ext cx="2666880" cy="107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E</m:t>
                        </m:r>
                      </m:e>
                      <m: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q</m:t>
                            </m:r>
                          </m:sub>
                        </m:sSub>
                      </m:sub>
                      <m:sup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q</m:t>
                            </m:r>
                          </m:sub>
                        </m:sSub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q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q</m:t>
                            </m:r>
                          </m:sub>
                        </m:sSub>
                      </m:den>
                    </m:f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q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q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5867280" y="1143000"/>
                <a:ext cx="2590920" cy="199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q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k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θ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kiq</m:t>
                                    </m:r>
                                  </m:sub>
                                </m:sSub>
                              </m:e>
                            </m:nary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q</m:t>
                                </m:r>
                              </m:sub>
                            </m:sSub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k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θ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kjq</m:t>
                                        </m:r>
                                      </m:sub>
                                    </m:sSub>
                                  </m:e>
                                </m:nary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1143000" y="3276720"/>
                <a:ext cx="2895480" cy="11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E</m:t>
                        </m:r>
                      </m:e>
                      <m: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jq</m:t>
                            </m:r>
                          </m:sub>
                        </m:sSub>
                      </m:sub>
                      <m:sup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q</m:t>
                            </m:r>
                          </m:sub>
                        </m:sSub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q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jq</m:t>
                            </m:r>
                          </m:sub>
                        </m:sSub>
                      </m:den>
                    </m:f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jq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q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1066680" y="5105520"/>
                <a:ext cx="1828800" cy="85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X</m:t>
                        </m:r>
                      </m:sub>
                      <m:sup>
                        <m:r>
                          <m:t xml:space="preserve">P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P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2971800" y="5105520"/>
                <a:ext cx="1371600" cy="84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ΔP</m:t>
                        </m:r>
                      </m:num>
                      <m:den>
                        <m:r>
                          <m:t xml:space="preserve">ΔX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4343400" y="5029200"/>
                <a:ext cx="2895480" cy="88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ΔP</m:t>
                    </m:r>
                    <m:r>
                      <m:t xml:space="preserve">≈</m:t>
                    </m:r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X</m:t>
                        </m:r>
                      </m:sub>
                      <m:sup>
                        <m:r>
                          <m:t xml:space="preserve">P</m:t>
                        </m:r>
                      </m:sup>
                    </m:sSubSup>
                    <m:r>
                      <m:t xml:space="preserve">⋅</m:t>
                    </m:r>
                    <m:r>
                      <m:t xml:space="preserve">ΔX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P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7" name=""/>
          <p:cNvSpPr/>
          <p:nvPr/>
        </p:nvSpPr>
        <p:spPr>
          <a:xfrm>
            <a:off x="1143000" y="6172200"/>
            <a:ext cx="3505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uena aproximación s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029200" y="6019920"/>
            <a:ext cx="3886200" cy="79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X es peque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i es line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Modelo Logit Multinom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14400" y="114300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a probabilidad de elección  es individual ¿cómo agregar para realizar predicciones para una població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685800" y="2057400"/>
                <a:ext cx="1752480" cy="13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q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k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θ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kiq</m:t>
                                    </m:r>
                                  </m:sub>
                                </m:sSub>
                              </m:e>
                            </m:nary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q</m:t>
                                </m:r>
                              </m:sub>
                            </m:sSub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k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θ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kjq</m:t>
                                        </m:r>
                                      </m:sub>
                                    </m:sSub>
                                  </m:e>
                                </m:nary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2" name=""/>
          <p:cNvSpPr/>
          <p:nvPr/>
        </p:nvSpPr>
        <p:spPr>
          <a:xfrm flipH="1" flipV="1">
            <a:off x="3886200" y="2209320"/>
            <a:ext cx="1440" cy="358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886200" y="5791320"/>
            <a:ext cx="457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505320" y="2514600"/>
            <a:ext cx="4343400" cy="3225960"/>
          </a:xfrm>
          <a:custGeom>
            <a:avLst/>
            <a:gdLst/>
            <a:ahLst/>
            <a:rect l="l" t="t" r="r" b="b"/>
            <a:pathLst>
              <a:path w="1824" h="1504">
                <a:moveTo>
                  <a:pt x="0" y="1496"/>
                </a:moveTo>
                <a:cubicBezTo>
                  <a:pt x="72" y="1500"/>
                  <a:pt x="144" y="1504"/>
                  <a:pt x="240" y="1496"/>
                </a:cubicBezTo>
                <a:cubicBezTo>
                  <a:pt x="336" y="1488"/>
                  <a:pt x="480" y="1496"/>
                  <a:pt x="576" y="1448"/>
                </a:cubicBezTo>
                <a:cubicBezTo>
                  <a:pt x="672" y="1400"/>
                  <a:pt x="752" y="1312"/>
                  <a:pt x="816" y="1208"/>
                </a:cubicBezTo>
                <a:cubicBezTo>
                  <a:pt x="880" y="1104"/>
                  <a:pt x="920" y="944"/>
                  <a:pt x="960" y="824"/>
                </a:cubicBezTo>
                <a:cubicBezTo>
                  <a:pt x="1000" y="704"/>
                  <a:pt x="1024" y="584"/>
                  <a:pt x="1056" y="488"/>
                </a:cubicBezTo>
                <a:cubicBezTo>
                  <a:pt x="1088" y="392"/>
                  <a:pt x="1104" y="320"/>
                  <a:pt x="1152" y="248"/>
                </a:cubicBezTo>
                <a:cubicBezTo>
                  <a:pt x="1200" y="176"/>
                  <a:pt x="1272" y="96"/>
                  <a:pt x="1344" y="56"/>
                </a:cubicBezTo>
                <a:cubicBezTo>
                  <a:pt x="1416" y="16"/>
                  <a:pt x="1504" y="16"/>
                  <a:pt x="1584" y="8"/>
                </a:cubicBezTo>
                <a:cubicBezTo>
                  <a:pt x="1664" y="0"/>
                  <a:pt x="1744" y="4"/>
                  <a:pt x="1824" y="8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352680" y="21337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229600" y="59436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495680" y="5715000"/>
            <a:ext cx="0" cy="7632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343400" y="571500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791320" y="4267080"/>
            <a:ext cx="0" cy="15242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562720" y="571500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3885840" y="5715000"/>
            <a:ext cx="609480" cy="0"/>
          </a:xfrm>
          <a:prstGeom prst="line">
            <a:avLst/>
          </a:prstGeom>
          <a:ln w="1908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895480" y="5410080"/>
            <a:ext cx="1067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3886200" y="4267080"/>
            <a:ext cx="1905120" cy="0"/>
          </a:xfrm>
          <a:prstGeom prst="line">
            <a:avLst/>
          </a:prstGeom>
          <a:ln w="1908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971800" y="4038480"/>
            <a:ext cx="1066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5181480" y="5791320"/>
            <a:ext cx="0" cy="45720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572000" y="6248520"/>
            <a:ext cx="1752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5181480" y="5409720"/>
            <a:ext cx="0" cy="38124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3886200" y="5410080"/>
            <a:ext cx="129528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209680" y="5410080"/>
            <a:ext cx="167652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52280" y="5257800"/>
            <a:ext cx="2057400" cy="5101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{(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/2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2209320" y="4952880"/>
            <a:ext cx="167652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62120" y="4648320"/>
            <a:ext cx="1447560" cy="5101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733920"/>
            <a:ext cx="0" cy="121896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2590920" y="5410080"/>
            <a:ext cx="0" cy="45720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52280" y="358128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Sesgo de agreg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Modelo Logit Multinom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38080" y="37339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nfoque inoc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4495680" y="3733920"/>
                <a:ext cx="1981440" cy="55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jQ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sub>
                        <m:r>
                          <m:t xml:space="preserve">Q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9" name=""/>
          <p:cNvSpPr/>
          <p:nvPr/>
        </p:nvSpPr>
        <p:spPr>
          <a:xfrm>
            <a:off x="914400" y="472428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numeración muest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4572000" y="4495680"/>
                <a:ext cx="2133720" cy="100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jQ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q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jq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21" name=""/>
          <p:cNvSpPr/>
          <p:nvPr/>
        </p:nvSpPr>
        <p:spPr>
          <a:xfrm>
            <a:off x="914400" y="563868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asif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4038480" y="5562720"/>
                <a:ext cx="2438640" cy="86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jQ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c</m:t>
                        </m:r>
                        <m:r>
                          <m:t xml:space="preserve">∈</m:t>
                        </m:r>
                        <m:r>
                          <m:t xml:space="preserve">Q</m:t>
                        </m:r>
                      </m:sub>
                      <m:sup/>
                      <m:e>
                        <m:f>
                          <m:num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Q</m:t>
                            </m:r>
                          </m:den>
                        </m:f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23" name=""/>
          <p:cNvSpPr/>
          <p:nvPr/>
        </p:nvSpPr>
        <p:spPr>
          <a:xfrm>
            <a:off x="457200" y="114300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artición de mercado agreg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09480" y="2743200"/>
            <a:ext cx="76964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roblema: necesitamos calcular P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jq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para toda la pobl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609480" y="1523880"/>
          <a:ext cx="13106520" cy="1067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523880"/>
                    <a:ext cx="13106520" cy="106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Modelo Logit Multinom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62120" y="1295280"/>
            <a:ext cx="73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Forma Incremental del modelo Lo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990720" y="2133720"/>
                <a:ext cx="1676160" cy="13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0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0</m:t>
                                </m:r>
                              </m:sup>
                            </m:sSubSup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sSub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  <m:sup>
                                    <m:r>
                                      <m:t xml:space="preserve">0</m:t>
                                    </m:r>
                                  </m:sup>
                                </m:sSubSup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3124080" y="2057400"/>
                <a:ext cx="1828800" cy="14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f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f</m:t>
                                </m:r>
                              </m:sup>
                            </m:sSubSup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sSub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  <m:sup>
                                    <m:r>
                                      <m:t xml:space="preserve">f</m:t>
                                    </m:r>
                                  </m:sup>
                                </m:sSubSup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5410080" y="2057400"/>
                <a:ext cx="2286000" cy="14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f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0</m:t>
                                </m:r>
                              </m:sup>
                            </m:sSubSup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Δ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sSub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  <m:sup>
                                    <m:r>
                                      <m:t xml:space="preserve">0</m:t>
                                    </m:r>
                                  </m:sup>
                                </m:sSubSup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ΔV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2" name=""/>
          <p:cNvSpPr/>
          <p:nvPr/>
        </p:nvSpPr>
        <p:spPr>
          <a:xfrm>
            <a:off x="8001000" y="23623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1066680" y="3809880"/>
                <a:ext cx="2286000" cy="132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f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0</m:t>
                            </m:r>
                          </m:sup>
                        </m:sSubSup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Δ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  <m:sup>
                                <m:r>
                                  <m:t xml:space="preserve">0</m:t>
                                </m:r>
                              </m:sup>
                            </m:sSubSup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sSub>
                                  <m:e>
                                    <m:r>
                                      <m:t xml:space="preserve">ΔV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4" name=""/>
          <p:cNvSpPr/>
          <p:nvPr/>
        </p:nvSpPr>
        <p:spPr>
          <a:xfrm>
            <a:off x="4419720" y="3962520"/>
            <a:ext cx="411480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ólo necesitamos P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, cambios propuestos y sensibilidad a esos cambios para pivotear en torno a la situación actu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Modelo Logit Multinom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914400" y="11430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stimación del modelo Logit 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38080" y="373392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 puede demostrar 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990720" y="1752480"/>
            <a:ext cx="373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990720" y="2819520"/>
            <a:ext cx="373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&lt;==&gt; 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2286000" y="1676520"/>
                <a:ext cx="4495680" cy="81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(</m:t>
                    </m:r>
                    <m:r>
                      <m:t xml:space="preserve">θ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∏"/>
                      </m:naryPr>
                      <m:sub>
                        <m:r>
                          <m:t xml:space="preserve">q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nary>
                          <m:naryPr>
                            <m:chr m:val="∏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jq</m:t>
                                </m:r>
                              </m:sub>
                              <m:sup>
                                <m:sSub>
                                  <m:e>
                                    <m:r>
                                      <m:t xml:space="preserve">δ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jq</m:t>
                                    </m:r>
                                  </m:sub>
                                </m:sSub>
                              </m:sup>
                            </m:sSubSup>
                          </m:e>
                        </m:nary>
                      </m:e>
                    </m:nary>
                    <m:r>
                      <m:t xml:space="preserve"> </m:t>
                    </m:r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jq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i</m:t>
                              </m:r>
                              <m:r>
                                <m:t xml:space="preserve"> </m:t>
                              </m:r>
                              <m:r>
                                <m:t xml:space="preserve">q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elige</m:t>
                              </m:r>
                              <m:r>
                                <m:t xml:space="preserve"> </m:t>
                              </m:r>
                              <m:r>
                                <m:t xml:space="preserve">j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i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no</m:t>
                              </m:r>
                              <m:r>
                                <m:t xml:space="preserve"> 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2743200" y="2679840"/>
                <a:ext cx="2514600" cy="83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(</m:t>
                    </m:r>
                    <m:r>
                      <m:t xml:space="preserve">θ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q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δ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jq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jq</m:t>
                                </m:r>
                              </m:sub>
                            </m:sSub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1712880" y="4286160"/>
                <a:ext cx="5259600" cy="119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l</m:t>
                        </m:r>
                        <m:r>
                          <m:t xml:space="preserve">(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t xml:space="preserve">⇒</m:t>
                    </m:r>
                    <m:r>
                      <m:t xml:space="preserve"> 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q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q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q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q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43" name=""/>
          <p:cNvSpPr/>
          <p:nvPr/>
        </p:nvSpPr>
        <p:spPr>
          <a:xfrm>
            <a:off x="1143000" y="5638680"/>
            <a:ext cx="739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El modelo reproduce las particiones de mercado observad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Modelo Logit Multinom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914400" y="1143000"/>
            <a:ext cx="228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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og(pro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838080" y="4343400"/>
            <a:ext cx="73915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(0): log verosimilitud del modelo equiprob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*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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log verosimilitud del modelo estim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962520" y="1143000"/>
            <a:ext cx="3733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áximo teórico = 0 , nunca se alcan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990720" y="2209680"/>
            <a:ext cx="373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stadígraf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838080" y="5410080"/>
            <a:ext cx="7925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(C): log verosimilitud del modelo sólo constantes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 (reproduce las particiones de mercado observad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3886200" y="1905120"/>
                <a:ext cx="1447920" cy="13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θ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k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914400" y="3352680"/>
                <a:ext cx="2057400" cy="92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ρ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l</m:t>
                        </m:r>
                        <m:r>
                          <m:t xml:space="preserve">∗</m:t>
                        </m:r>
                        <m:r>
                          <m:t xml:space="preserve">(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l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4191120" y="3352680"/>
                <a:ext cx="2057400" cy="93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C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l</m:t>
                        </m:r>
                        <m:r>
                          <m:t xml:space="preserve">∗</m:t>
                        </m:r>
                        <m:r>
                          <m:t xml:space="preserve">(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l</m:t>
                        </m:r>
                        <m:r>
                          <m:t xml:space="preserve">(</m:t>
                        </m:r>
                        <m:r>
                          <m:t xml:space="preserve">C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4T01:13:12Z</dcterms:created>
  <dc:creator>Marcela Munizaga</dc:creator>
  <dc:description/>
  <dc:language>en-US</dc:language>
  <cp:lastModifiedBy>Marcela Munizaga</cp:lastModifiedBy>
  <dcterms:modified xsi:type="dcterms:W3CDTF">2004-09-21T07:34:48Z</dcterms:modified>
  <cp:revision>69</cp:revision>
  <dc:subject/>
  <dc:title>Sin título de diapositiva</dc:title>
</cp:coreProperties>
</file>