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29C6-BE8D-4F6B-A3E5-E0163809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8E87-C7B9-42A3-8B01-700E9AD7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BD89-E296-4754-9347-2D22550C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C61B-9223-4D2C-B168-59DBBB1B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14A-D857-4320-A5AA-8A0D8B20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ECC9-3055-4828-93DD-A8319757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59DF-4FEE-4012-8CE6-257F3FC7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42D6-2400-4B24-9FBC-F309EC73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6F9D-5D06-42A0-8442-C35B968A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BAFF-B29F-4556-BAB1-A2A2F211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9E95-4D26-49B1-84AC-D8C79AB0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3545-80EA-4A5F-B9EE-3D51C499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AF8D-9C89-4F2C-B7BE-3B486C7A6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1447920"/>
            <a:ext cx="480060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olviendo a la 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914400" y="20574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990720" y="56386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jq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90720" y="4419720"/>
          <a:ext cx="13106160" cy="106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419720"/>
                    <a:ext cx="131061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72000" y="1143000"/>
                <a:ext cx="19810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990720" y="21337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648320" y="1905120"/>
                <a:ext cx="213336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990720" y="3048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114800" y="2971800"/>
                <a:ext cx="24382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066680" y="4876920"/>
                <a:ext cx="167652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200400" y="48006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486400" y="48006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82296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09T06:19:15Z</dcterms:modified>
  <cp:revision>58</cp:revision>
  <dc:subject/>
  <dc:title>Sin título de diapositiva</dc:title>
</cp:coreProperties>
</file>