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28D-13A2-424A-89B1-EA229787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8BF-514C-4856-B64D-8173D42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7B4-3EA4-473A-923D-04C8B7F4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BE9-5EB8-4D9C-B65E-02B38FE5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13A-5983-4AF0-A8D0-4D93EBD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446-A705-4668-90EB-08A6B06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10F-02A7-4D3A-8687-F4D1197E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31A-4D28-431E-A518-E862452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E92-B0BF-4A1F-881F-8001008A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EE6-B94C-48C0-B96D-46E3950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A2F-A5E1-47D3-90D8-16F44D9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048-FFE1-4B0C-AD24-4566A59F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AA4-4A2F-49F5-BEBB-DFB7ABC7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20574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jq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4419720"/>
          <a:ext cx="1310616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19720"/>
                    <a:ext cx="13106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1143000"/>
                <a:ext cx="1981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90720" y="21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8320" y="1905120"/>
                <a:ext cx="2133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90720" y="3048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14800" y="2971800"/>
                <a:ext cx="243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66680" y="4876920"/>
                <a:ext cx="16765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00400" y="48006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48006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296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9T06:19:15Z</dcterms:modified>
  <cp:revision>58</cp:revision>
  <dc:subject/>
  <dc:title>Sin título de diapositiva</dc:title>
</cp:coreProperties>
</file>