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DEC-D8CA-4FED-8532-D6F1CA00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486E-B109-4B0C-AF79-787C2A37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73F5-639D-40E8-8C83-E7F1D86E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3BB6-1205-41EE-ACD4-BA75266D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F84-4F04-49BB-9609-23F01CA9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0F7-C0EA-4207-BF75-A8C60D80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95BC-71A2-400C-BD8A-61F75881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5B7-5C5E-4B79-8EFB-9866FD8D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75D-EAC2-4FA3-8979-D3F59168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CB0B-A319-4237-BCBD-2B3395DE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85F-C487-4DA0-926C-1F772349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11D-2467-44E9-AE5D-0326F96F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65BF-D87D-4707-9602-C96930E2C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1447920"/>
            <a:ext cx="480060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olviendo a la 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914400" y="20574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990720" y="5638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jq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90720" y="4419720"/>
          <a:ext cx="13106160" cy="106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419720"/>
                    <a:ext cx="131061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72000" y="1143000"/>
                <a:ext cx="19810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90720" y="21337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648320" y="1905120"/>
                <a:ext cx="21333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990720" y="3048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114800" y="2971800"/>
                <a:ext cx="24382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066680" y="4876920"/>
                <a:ext cx="167652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00400" y="48006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486400" y="48006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82296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09T06:19:15Z</dcterms:modified>
  <cp:revision>58</cp:revision>
  <dc:subject/>
  <dc:title>Sin título de diapositiva</dc:title>
</cp:coreProperties>
</file>