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8A3C-FCD4-4448-8DAE-DBA7EF7D3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2EEC-50EA-412E-9D36-952FE5C6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8B3B-DC69-43DF-A387-E09DA9FD1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36F0-C592-4AEF-AD6C-4CE2F00F7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4B83-B00F-430C-BF06-C12AB9C8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38C8-F701-4515-8F1F-6C141DA7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D7E8-A4A6-49BF-B3C6-620B24C1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C1EC-3B3A-4AA1-828D-15C46FC2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334E-D98E-4927-961C-17DBAF4D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F44A-B4F7-4BD8-9E67-EBCEB43D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0182-D9C1-4BF6-B9AD-FCA753F6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7A5F-109C-412E-BE48-07AB199E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6B19-0987-4A66-A37B-5CC64167B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ación de la Partición Mod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676520" y="33526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7524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2971800"/>
            <a:ext cx="4190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(para un cierto periodo -propósito-tipo de perso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4191120"/>
            <a:ext cx="990720" cy="609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54100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orción de usuarios que utiliza cada m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86200" y="1447920"/>
            <a:ext cx="480060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ende de los atributos de i y del r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ólo importan las diferencias.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00400" y="4876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36576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 de escala que no se puede estimar (parámetro no identifi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143000" y="3657600"/>
                <a:ext cx="12193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914400" y="10666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752480" y="22860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990720" y="57913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066680" y="487692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090200">
            <a:off x="3924360" y="5218920"/>
            <a:ext cx="75960" cy="304920"/>
          </a:xfrm>
          <a:custGeom>
            <a:avLst/>
            <a:gdLst>
              <a:gd name="textAreaLeft" fmla="*/ 48600 w 75960"/>
              <a:gd name="textAreaRight" fmla="*/ 76320 w 7596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5334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29200" y="487692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143000"/>
            <a:ext cx="8001000" cy="56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observamos los atributos (X) y las elecciones (i) de muchos individ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buscam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' tal que las predicciones sean buenas, al menos para la muestra de calib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sabemos si son buen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Max P(Felipe elija bus, Juan elija metro, Camila elija bu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=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Metro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Maximizar la probabilidad de que lo predicho sea igual a lo observ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-&gt; MÁXIMA VEROSIMI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1143000"/>
            <a:ext cx="800100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todas las alternativas tienen la misma uti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ando se alcanzan los valores límite 0 y 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fecto de la componente aleatoria representada por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dependencia de alternativas ir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1143000"/>
            <a:ext cx="8001000" cy="41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stantes modales (específic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3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1905120" y="4191120"/>
            <a:ext cx="38088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51814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pretación de los parámetro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1143000"/>
            <a:ext cx="80010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olviendo a la especificación de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D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S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CAM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croeconomía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447920" y="2971800"/>
                <a:ext cx="15494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S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mp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3657600" y="297180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uánto estoy dispuesto a pagar por ahorrarme un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4419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i, Q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49528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ariables socioeconómica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otras variables que describen al individu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greso, género, edad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11430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asticidades      ¿sig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2819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sticidad cruz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4495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álisis de sen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990720" y="1676520"/>
                <a:ext cx="26668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867280" y="1143000"/>
                <a:ext cx="25909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43000" y="3276720"/>
                <a:ext cx="289548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066680" y="5105520"/>
                <a:ext cx="18288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971800" y="5105520"/>
                <a:ext cx="13716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343400" y="5029200"/>
                <a:ext cx="2895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ΔP</m:t>
                    </m:r>
                    <m:r>
                      <m:t xml:space="preserve">≈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ΔX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1143000" y="61722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ena aproximación 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6019920"/>
            <a:ext cx="38862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es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 es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1143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probabilidad de elección  es individual ¿cómo agregar para realizar predicciones para una pob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4038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ón de mercado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914400" y="2057400"/>
                <a:ext cx="25909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990720" y="56386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blema: necesitamos calcular Pjq para toda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990720" y="4419720"/>
          <a:ext cx="13106160" cy="106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419720"/>
                    <a:ext cx="1310616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foque ino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4038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rma Incremental del modelo Lo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572000" y="1143000"/>
                <a:ext cx="198108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990720" y="21337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umeración mue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648320" y="1905120"/>
                <a:ext cx="213336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990720" y="30481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114800" y="2971800"/>
                <a:ext cx="24382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Q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066680" y="4876920"/>
                <a:ext cx="167652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200400" y="4800600"/>
                <a:ext cx="18288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f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f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486400" y="4800600"/>
                <a:ext cx="22860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8229600" y="51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09-09T06:19:15Z</dcterms:modified>
  <cp:revision>58</cp:revision>
  <dc:subject/>
  <dc:title>Sin título de diapositiva</dc:title>
</cp:coreProperties>
</file>