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476-08BC-439C-83E0-92F87E80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C395-9C4A-44E5-8B0C-D53D0B35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288-5B35-42E0-B3FC-17D6DC0B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3B1-A804-44A3-BB5A-58886EE4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8EB-6499-4E62-B45F-2FAACC6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524-A8DC-43A6-950E-68403CD8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10CD-1244-4DB0-AAEE-A81D905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69E-9C4F-4CE2-A284-CC4B777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F1D-5DED-479F-8716-34A117D1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3C4-D53A-4F24-857D-3983146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825-5D7A-4856-AD06-03D4A5F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1B2-FF09-48D7-8581-1A6640D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6110-837D-49E4-9929-2A36FAD73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143000"/>
            <a:ext cx="800100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7T03:38:01Z</dcterms:modified>
  <cp:revision>49</cp:revision>
  <dc:subject/>
  <dc:title>Sin título de diapositiva</dc:title>
</cp:coreProperties>
</file>