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DE7-78EE-4207-931D-69906954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5B2-C623-4045-A5B6-8464B48D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F7D-3F86-402A-BA00-AFC887ED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E479-116F-4E3D-B01F-96FC4594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BB0-D7B2-40D7-8E69-E03BB6BC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EB0-2383-4442-974F-FACB9BC0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895-66E3-41AC-9CC8-356B5798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EDA-7DB6-428F-9421-EC5E6407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705-CAF4-46D7-A276-1BB5DE22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662-5265-4083-AD94-76178223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9FB-1D11-47B7-BA8C-5530BEBB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B02-3CDB-4C05-97A5-F0240066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923C-5FCB-4F43-92DB-B0465DD2E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200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3200400"/>
                <a:ext cx="1924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886200"/>
            <a:ext cx="739116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1143000"/>
            <a:ext cx="800100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07T03:38:01Z</dcterms:modified>
  <cp:revision>49</cp:revision>
  <dc:subject/>
  <dc:title>Sin título de diapositiva</dc:title>
</cp:coreProperties>
</file>