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5D9-409B-45E3-B482-E110D1FB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F4C-45AC-4246-8400-2DD7FA36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64A-FC22-4B83-9333-9A62C107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539-3537-4FC6-8506-D077C781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86C-3C4A-438F-A0B5-791154FD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4B0-46F5-4509-96FF-62BF06C2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1D2-CEA8-4035-BC29-4710784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807-665B-4CEA-9CEA-AD73A3AD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866-198F-4AE6-87A4-5BBBE670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FBC-ADF7-4456-A126-29B7D1F4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AA1-5D5B-49FF-BE29-B95451C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8A9-12C8-4F5F-B8BA-3769B4C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B8F2-24DE-4885-8378-B65A4181F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143000"/>
            <a:ext cx="800100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7T03:38:01Z</dcterms:modified>
  <cp:revision>49</cp:revision>
  <dc:subject/>
  <dc:title>Sin título de diapositiva</dc:title>
</cp:coreProperties>
</file>