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C73-2925-4AE6-9A80-8B8E4C93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B81-0F68-4F77-AD14-EF329381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A89-660B-4670-B0E7-CD57AC83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E02-5F61-4E76-B065-49C3B395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E6B-5FBF-4639-BE49-517DE33B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86B-C4FE-41C8-9F11-E8296A22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9D8-6FC4-48A7-90D5-594BB485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6D69-8274-4D43-96A7-CCCFDAE6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F04-CDF8-4806-B382-A705300F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984-43FB-4D20-AB1F-1FA0FF0D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D2E-1E8C-49C7-83DE-45E4D083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FF3-EDCE-4462-BADE-25ACBBBB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98F6-5F45-40A4-B641-96074F28D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200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3200400"/>
                <a:ext cx="1924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886200"/>
            <a:ext cx="739116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143000"/>
            <a:ext cx="800100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07T03:38:01Z</dcterms:modified>
  <cp:revision>49</cp:revision>
  <dc:subject/>
  <dc:title>Sin título de diapositiva</dc:title>
</cp:coreProperties>
</file>