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F44-52BB-43A0-8CA8-E5C79A8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BF7-511B-4F5F-A31E-9CCD0FF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682-91BE-4F7A-8707-5FC65D6F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038-3967-44F9-AA32-856DC0B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E01-2C94-4757-984E-12398F0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088-3C75-4EBF-A031-CC2CF34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427-F913-40FA-93E4-28772ED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C97-D680-4E99-86E9-9BF27C4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CFB-9C05-47A3-B91A-BEB23EA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FAC-2FA3-4E17-A320-F950736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A3D-4772-4177-8937-D0963AF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A20-9C3B-40B1-9AF2-FBEE131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FAA-6C5F-48B8-A96C-57D2A7A61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143000"/>
            <a:ext cx="8001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7T03:38:01Z</dcterms:modified>
  <cp:revision>49</cp:revision>
  <dc:subject/>
  <dc:title>Sin título de diapositiva</dc:title>
</cp:coreProperties>
</file>