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85A-8643-48FD-B93F-6E387F46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792-7938-4015-9F1E-55D80C00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2C4-359C-4473-84CA-C2681DDD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4A3-F9B7-4433-A324-8EB57DE3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B59-67DE-430D-85D2-54C87E12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F9D-BC21-4476-A0C8-0373E89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664B-C2EE-4843-BD19-DFB639B6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3CE-AF5B-4020-9EE5-A567A460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5BB-D118-4736-9F5F-923C8117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4C7-083E-4F7A-97B0-AB4EC12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D87-D215-4886-901C-A14D22CE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A3D-F335-4FDF-A00F-DA84DE08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9BD4-5485-41E4-AF5A-E46D008C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ximización de la Entrop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8108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0080" y="1981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04812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3048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42670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790640" y="156168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2324160" y="27810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198108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3048120"/>
            <a:ext cx="762120" cy="53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267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143000"/>
            <a:ext cx="7696080" cy="61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02T03:43:53Z</dcterms:modified>
  <cp:revision>38</cp:revision>
  <dc:subject/>
  <dc:title>Sin título de diapositiva</dc:title>
</cp:coreProperties>
</file>