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595-F23C-4933-85C7-DA010ACD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5F8-3520-4431-A1B7-5FCBB7F3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727-862E-4B5F-8AC5-9923A859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44F-8359-43C5-B6EC-2907BA40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15D-F689-4A6D-9C87-39DA912D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E0B-4183-4FA7-97AD-7F78FD94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5B2-AADF-4B16-B15E-323840AC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8F2-C6FC-40A8-9BC9-C8CDA8F8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429-B158-4444-9F48-CFAE0830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959-797E-4904-8A63-353CD9FD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3E4-DD8F-4D04-9E45-8E7ABA58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57B-F858-4E3F-9C47-8868C8F8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6239-247E-410E-BDF8-FA92E03EF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2T03:43:53Z</dcterms:modified>
  <cp:revision>38</cp:revision>
  <dc:subject/>
  <dc:title>Sin título de diapositiva</dc:title>
</cp:coreProperties>
</file>