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0EF0-D040-4CC9-A322-0110CAD5A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1356-BE07-4D89-B142-AAC2192A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BA5A-229D-43B8-A029-CAE67D6E4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693F-8285-4715-A730-4CF4667C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8862-6040-4DEF-AD00-B24EDAD5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2ED4-7594-4812-8D51-CA7ED8BF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7A4C-F71F-4760-BC4F-9F585110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CABA-6721-48E4-B099-654220DC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C023-9E96-4829-AC93-94DBCE1E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C9DA-2460-42B1-89E2-B9497AAB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E79B-9B34-4B2F-8377-00404EED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A498-3AE7-47FC-AED5-8DFF70B1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24BE-AF9D-4C23-BA9E-AA90E9D27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62120"/>
            <a:ext cx="91440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aximización de la Entrop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198108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410080" y="1981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stado 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09680" y="304812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86400" y="3048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stado m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562720" y="4876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o mi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42670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isiones individuales de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1790640" y="156168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2324160" y="278100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1981080"/>
            <a:ext cx="106704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3048120"/>
            <a:ext cx="762120" cy="5331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4267080"/>
            <a:ext cx="19051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267080" y="2438280"/>
                <a:ext cx="308628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80880" y="3352680"/>
            <a:ext cx="853452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1) n=0 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/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2) n=n+1 calcular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, calcular c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, comparar con 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on parecidos parar, si no, ir a paso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3) cal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133720" y="5105520"/>
                <a:ext cx="67053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690840" y="1066680"/>
            <a:ext cx="465516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S(~W) s.a. O, D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libración 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método               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60199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4) repetir 2 y 3 hasta conv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1143000"/>
            <a:ext cx="7696080" cy="61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co de mod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modificaciones: agregar o quitar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orí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dest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ac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ciones 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deri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09-02T03:43:53Z</dcterms:modified>
  <cp:revision>38</cp:revision>
  <dc:subject/>
  <dc:title>Sin título de diapositiva</dc:title>
</cp:coreProperties>
</file>