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0DF-F5A3-416B-B68A-2EB18C17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06D-4473-4900-92AA-F42A5F0B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5C8-F10F-4226-80EB-87EC0144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4E6-F5BA-4562-8526-DC622DD3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000-7B9A-45F6-9BFC-BA5D5CEB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6D8-923C-44F2-8563-19D43304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42A-86B5-4103-8573-B5605C14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BA3-3FCD-4345-9AB8-154603AE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268-747E-4B98-8C83-96E7D360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DC0-2627-4717-9F4D-DD318A6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922-A035-4ECC-8D41-D4DACE3E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CB6-D610-4A56-B34B-71466F76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265-234A-4A9C-946B-97269B0F0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2T03:43:53Z</dcterms:modified>
  <cp:revision>38</cp:revision>
  <dc:subject/>
  <dc:title>Sin título de diapositiva</dc:title>
</cp:coreProperties>
</file>