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6F7-64B8-4008-AE19-951A05E6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695-7E9F-4200-82C4-C439B67F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B76-67F2-475C-9810-4A06298B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A48-D3FD-4813-B555-2426DB93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62E-22D4-4077-A4D9-E389B1A3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84E-5B6D-499B-A6EA-691A64CF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5F0-591A-4AB5-8041-886421C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678-A24B-423B-9B36-F3635C8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BA6-32DF-4CA0-9FFA-2A340D7D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7D6-DB14-4D8F-A784-7E638285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36A-46AC-4A4A-A373-4016FF2A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C92-4ABA-48E0-BCBA-F5806AE5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159B-1FF4-4129-8603-3AD63551D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31T02:46:02Z</dcterms:modified>
  <cp:revision>33</cp:revision>
  <dc:subject/>
  <dc:title>Sin título de diapositiva</dc:title>
</cp:coreProperties>
</file>