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7C3-8633-46C3-84C9-CF4EC24D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C62-15E3-4C88-8177-5B8C453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EF7-3A85-495C-AFC4-D9183497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F7A-7F80-4C9B-B151-7BD6626D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965-6731-4407-96E0-3781267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FE4-7194-45B4-9459-DAE3D5E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1B1-EE8D-4213-9E83-4B01701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DA4-2BD0-42D4-B65D-56E29CD0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8AD-63E0-45EA-A28E-70C3298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04C-DB31-487F-A128-1362061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DE6-B50E-4C6A-B6B2-9FAC476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625-1D50-4FD9-96F7-D19100F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E03-420E-4FE0-87CE-F39EC43BC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31T02:46:02Z</dcterms:modified>
  <cp:revision>33</cp:revision>
  <dc:subject/>
  <dc:title>Sin título de diapositiva</dc:title>
</cp:coreProperties>
</file>