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B33-4E3F-4E55-9630-7EFA592B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90C-AD67-4A36-9891-8EAF2482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095-F9B3-4292-9A0C-ED7E79B6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024-E744-47D9-87D2-66B69B71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E03-9019-4502-8FD8-BC23510F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F59-7A8A-4D4E-850E-7D8288B8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84B-77DB-403B-8C39-5D090108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8BB-2E8A-4C28-9D58-331458DD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2E1-4906-4F17-9643-0022D9D8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115-6B51-46C7-B62B-0AA8F95D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B7A-A9B6-4B73-AFFA-9951DD46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C17-BAA4-46AD-B898-80703F67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49C6-2C5E-4C91-8B9A-849E77F0C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8-31T02:46:02Z</dcterms:modified>
  <cp:revision>33</cp:revision>
  <dc:subject/>
  <dc:title>Sin título de diapositiva</dc:title>
</cp:coreProperties>
</file>