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77D-49FB-4AE3-8AB2-4B9EAE17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4F2-4382-4234-A534-2D443A6C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50F-B15D-4B2C-8E49-DCDA7DF5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ADF-8F8C-4C37-9AFC-E72D46F9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6D8-6740-4544-8584-D12BEE9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331-8505-4648-A641-76423EE0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3D1-01F4-4693-8F0B-F9468A4F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565-E7EE-4C59-8E63-11920812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627-89DB-4135-8298-311C065C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F6B-C149-4CD1-BBC0-7BFAEACC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038-2F89-4F69-90E5-412A4A0A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BD5-580C-4635-97FA-CD4CEDBA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9699-9068-4C9D-AC8F-F64B0BC12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31T02:46:02Z</dcterms:modified>
  <cp:revision>33</cp:revision>
  <dc:subject/>
  <dc:title>Sin título de diapositiva</dc:title>
</cp:coreProperties>
</file>