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A86-0FB5-48BC-8AA2-EA45DD2C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960-8785-49ED-97A1-8F495EA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336-9F30-4A4F-ACC5-23A91CD2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060-BE72-4A63-9006-6BDE1CF7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ABE-6E6D-4E86-B385-CC4D214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23A-26B5-4B7A-85A9-14F77228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0B6-F73D-4948-914C-0EE1509C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291-3684-4499-ABC2-7440D05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F17-981F-4503-B445-4046E834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6A4-DD99-4366-9942-AB61093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9A3-17B0-4B94-B3CC-B84B9B9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FB1-85A1-49D6-A757-FF93A7B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87E-AD07-405E-92A2-7EB24E9D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2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3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6T04:34:23Z</dcterms:modified>
  <cp:revision>22</cp:revision>
  <dc:subject/>
  <dc:title>Sin título de diapositiva</dc:title>
</cp:coreProperties>
</file>