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502-3B2B-4C31-8CFE-71A41676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ECDA-FE43-4126-BFEF-DA5C8F5C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B7A-39D4-4DF3-9AF9-698C6316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0759-B176-4F71-98EB-E4677B47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19C-03F0-42C0-89C4-6EAC2CF0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D0D-DE74-41FB-8CE7-28B20395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577-D593-48C1-B187-2D7EE7D5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255-5867-431B-B86D-53316E7E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75B-8452-4529-8C2D-C5B7CB34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8E31-3028-4641-8C4D-4F822455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17B-3152-4C05-B91E-E393D628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D23A-240F-4EED-9175-3A556FE6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0711-C84F-4A04-A7F5-1B75BBCAD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7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8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9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0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2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3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4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43A Análisis de Sistemas de Transporte: Clase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838080"/>
            <a:ext cx="769608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8-26T04:34:23Z</dcterms:modified>
  <cp:revision>22</cp:revision>
  <dc:subject/>
  <dc:title>Sin título de diapositiva</dc:title>
</cp:coreProperties>
</file>