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E52-D7CA-42B1-9A90-3D4D8842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62E-9EC7-4D9C-A752-3434DCA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203-A6E7-45C3-B3CB-FF9C165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47B-F78D-40B7-9CF8-8CCE7910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3FC-7ADB-4CEA-8901-AD54D1E7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8FC-44EF-4696-AB5A-2D1D2A0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CD4-F41A-47B7-8EEB-86F0F71F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FEC-17F5-49E6-AC87-34F1E16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C3B-2ED5-425A-BBF5-AC18E046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13B-80EE-437F-BE9F-AF23E670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411-5AF4-4726-8D15-8D2B25F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15D-3498-4CFE-8353-8AC5F61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473-5FE1-4A28-8283-F6FCDA53E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9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0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2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3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4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I43A Análisis de Sistemas de Transporte: Cl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838080"/>
            <a:ext cx="769608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8-26T04:34:23Z</dcterms:modified>
  <cp:revision>22</cp:revision>
  <dc:subject/>
  <dc:title>Sin título de diapositiva</dc:title>
</cp:coreProperties>
</file>