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559-58A0-42C3-951D-17B1F1B7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FF0-A031-4D2A-BE31-FE42DB9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3BB-BED4-409D-B8D3-39678C6E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8F8-4F93-4743-9A12-16E64065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7A3-6695-4257-93BB-DCBE18E3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47A-38BC-4E94-8B17-7E8244F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5E3-8E3F-4FDD-A91D-13129267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3AA-074E-4F15-8698-BB1F52DB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198-34FD-4F70-A8E8-14FC7B4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7E3-2D5F-4494-B3D6-9A7336E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699-A025-4CE7-93A7-71510AE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2B4-3711-46A6-8629-B1B4460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5E33-AD71-448F-9A3B-45C8725D1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2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3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6T04:34:23Z</dcterms:modified>
  <cp:revision>22</cp:revision>
  <dc:subject/>
  <dc:title>Sin título de diapositiva</dc:title>
</cp:coreProperties>
</file>