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D60-8DD3-4A3A-BE72-76B34C49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E8B-7B96-4B40-8CE7-9FF3E05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EA8-7306-4D15-B73D-87A1F4C6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8FA-5ACE-4376-A772-2219A37E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0FB-979F-428E-82F4-350A40E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694-64AA-4ECB-AB77-5610D159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B7-4180-4FE8-B9E6-576B13DF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B14-52BD-40F2-BDA5-73D5F42E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54A-E03D-40E5-8369-10CBD07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824-B681-4F27-868C-30083A3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01D-99C5-4CD4-ABF0-40C15F0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9D9-1778-431C-B1EC-3F6080F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E162-3CAB-4EEF-96E2-BF97AA97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2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3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6T04:34:23Z</dcterms:modified>
  <cp:revision>22</cp:revision>
  <dc:subject/>
  <dc:title>Sin título de diapositiva</dc:title>
</cp:coreProperties>
</file>