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161-3715-46C0-B39E-6683DC1F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D29-B354-427B-9E75-DCC9B3A1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F55-1961-4763-8B20-CCD555C2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B57-AA9A-49E9-82FC-767F6F49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89F-24DE-402D-9C22-C27E4D1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35C-68C7-432B-80FE-838AD5A2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D22-81C6-4A4A-A5E6-8FD9C22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1EC-A7FC-475B-8263-601562B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8D5-36BA-41E2-94D8-5DBBB261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BAB-78DB-470B-AC4E-52DBFCF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AC5-7738-48C0-BE79-B72214E9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953-54AB-441C-9185-8B5A302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4BC3-83CE-49EF-B9A3-8F2AF1DC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8600" y="1523880"/>
            <a:ext cx="8709120" cy="2314800"/>
            <a:chOff x="228600" y="1523880"/>
            <a:chExt cx="8709120" cy="2314800"/>
          </a:xfrm>
        </p:grpSpPr>
        <p:sp>
          <p:nvSpPr>
            <p:cNvPr id="75" name=""/>
            <p:cNvSpPr/>
            <p:nvPr/>
          </p:nvSpPr>
          <p:spPr>
            <a:xfrm>
              <a:off x="244440" y="1539720"/>
              <a:ext cx="8693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440" y="1539720"/>
              <a:ext cx="8693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40" y="1539720"/>
              <a:ext cx="1800" cy="229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40" y="1539720"/>
              <a:ext cx="15840" cy="229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4440" y="1539720"/>
              <a:ext cx="8693280" cy="300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4440" y="1822320"/>
              <a:ext cx="1216080" cy="201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09640" y="15555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6280" y="1555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75320" y="1555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1160" y="155556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0200" y="155556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89440" y="155556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70400" y="15555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3400" y="18399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9480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0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2664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68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10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4256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9316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242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848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072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404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8996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24640" y="183996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9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9020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1280" y="18399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39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5572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080" y="18399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916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4120" y="2122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072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09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38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10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652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256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931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242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848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728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04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440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35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564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0200" y="21225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1280" y="21225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390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5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40080" y="21225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3916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760" y="24066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772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73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364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796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32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2664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244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848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07280" y="2406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0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8996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46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960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7320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40920" y="24066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2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5572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0080" y="24066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391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760" y="268920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772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20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736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4364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796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432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4256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316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42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5848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0728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04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8996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246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96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020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41280" y="268920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90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164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40800" y="26892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092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400" y="297180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072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09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38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664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68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100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256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31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24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848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72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0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704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23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7320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0920" y="29718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2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5572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0080" y="29718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3916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3400" y="32558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072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09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38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3640" y="32558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77960" y="32558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32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256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931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242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5848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728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404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7440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235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64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728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3984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3892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5572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008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3916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960" y="353844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480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606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107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765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266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9244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11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6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70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32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728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39840" y="35384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38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73920" y="353844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90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444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4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44324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324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5916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916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47508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7508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9100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100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5072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72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52320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320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7216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2164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0280" y="1523880"/>
              <a:ext cx="8677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9218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218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280" y="182232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0280" y="1822320"/>
              <a:ext cx="8643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280" y="21067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0280" y="210672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0280" y="23893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0280" y="238932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0280" y="26733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0280" y="26733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0280" y="29559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0280" y="29559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0280" y="32385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280" y="323856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80" y="352260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80" y="352260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1523880"/>
              <a:ext cx="31680" cy="231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324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324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5916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916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7508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100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100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0728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2895480"/>
            <a:ext cx="99036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89548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97180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523880"/>
            <a:ext cx="106668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523880"/>
            <a:ext cx="99036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791320" y="1371600"/>
          <a:ext cx="3058920" cy="20667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37160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791320" y="3962520"/>
          <a:ext cx="3058920" cy="20667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396252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4T06:56:29Z</dcterms:modified>
  <cp:revision>14</cp:revision>
  <dc:subject/>
  <dc:title>Sin título de diapositiva</dc:title>
</cp:coreProperties>
</file>