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6E9-887E-4867-9C7C-8559281A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47F-E5FB-4DB9-AE3F-0D551C46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A35-3951-4D6A-A496-76F5EF68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E02-447C-46CC-8F7A-728FA485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E87-8316-46D8-A04C-59CB084F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2D4-A159-4247-81A3-7327482C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9ED-9034-4635-9B36-721ECCB7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F5B-C55E-4609-A7F3-C0B8F3F9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271-2458-4ED0-AA58-59E72624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1D7-A653-413B-AB53-608BD861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48F-E1CF-4BAC-8F59-55B8DEBB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9ED-1A44-4843-996B-C5D0EE98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1562-76D0-430C-A164-A9BD417EF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: Clase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8600" y="1523880"/>
            <a:ext cx="8709120" cy="2314800"/>
            <a:chOff x="228600" y="1523880"/>
            <a:chExt cx="8709120" cy="2314800"/>
          </a:xfrm>
        </p:grpSpPr>
        <p:sp>
          <p:nvSpPr>
            <p:cNvPr id="75" name=""/>
            <p:cNvSpPr/>
            <p:nvPr/>
          </p:nvSpPr>
          <p:spPr>
            <a:xfrm>
              <a:off x="244440" y="1539720"/>
              <a:ext cx="8693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4440" y="1539720"/>
              <a:ext cx="86932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4440" y="1539720"/>
              <a:ext cx="1800" cy="229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40" y="1539720"/>
              <a:ext cx="15840" cy="229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4440" y="1539720"/>
              <a:ext cx="8693280" cy="300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4440" y="1822320"/>
              <a:ext cx="1216080" cy="201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09640" y="155556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26280" y="155556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75320" y="15555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91160" y="155556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0200" y="155556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89440" y="155556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70400" y="155556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3400" y="183996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94800" y="18399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6060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26640" y="18399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6880" y="18399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1008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42560" y="18399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93160" y="18399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2420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58480" y="18399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07280" y="18399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4048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89960" y="18399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24640" y="183996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960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90200" y="18399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41280" y="183996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3908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55720" y="18399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40080" y="183996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3916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4120" y="212256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072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6096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380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10720" y="21225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7652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256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9316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2420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848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0728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048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7440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2356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5640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90200" y="21225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1280" y="212256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3908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5720" y="21225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40080" y="212256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3916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3760" y="240660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7720" y="2406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24066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736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43640" y="2406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7960" y="24066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4328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26640" y="24066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244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58480" y="24066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07280" y="24066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4048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89960" y="2406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24640" y="24066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8960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73200" y="24066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40920" y="24066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7248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55720" y="24066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0080" y="240660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3916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3760" y="268920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772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62040" y="26892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736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4364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77960" y="26892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4328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42560" y="2689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93160" y="26892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420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58480" y="2689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07280" y="26892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4048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8996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24640" y="26892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960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9020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41280" y="268920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3908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71640" y="2689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40800" y="26892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092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400" y="297180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1072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6096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9380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664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7688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1008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4256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9316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2420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848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728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4048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57040" y="29718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2320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7320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40920" y="29718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7248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55720" y="29718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0080" y="297180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3916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3400" y="32558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072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6096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9380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43640" y="32558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77960" y="32558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4328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4256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9316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2420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5848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728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4048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7440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2356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640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7280" y="32558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39840" y="32558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3892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55720" y="32558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40080" y="32558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3916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960" y="353844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9480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6060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1072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7652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2664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9244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4112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0692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704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2320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728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39840" y="35384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3892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73920" y="353844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3900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4444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444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44324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43240" y="1523880"/>
              <a:ext cx="172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45916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59160" y="1523880"/>
              <a:ext cx="172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47508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75080" y="1523880"/>
              <a:ext cx="176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49100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91000" y="1523880"/>
              <a:ext cx="176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50728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0728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52320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2320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72164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21640" y="1523880"/>
              <a:ext cx="176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0280" y="1523880"/>
              <a:ext cx="867744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92188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2188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280" y="1822320"/>
              <a:ext cx="8643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0280" y="1822320"/>
              <a:ext cx="86439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0280" y="210672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0280" y="210672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0280" y="238932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0280" y="238932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0280" y="267336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0280" y="267336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0280" y="295596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0280" y="295596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0280" y="323856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280" y="323856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280" y="3522600"/>
              <a:ext cx="8643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80" y="352260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" y="1523880"/>
              <a:ext cx="31680" cy="231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3240" y="1555560"/>
              <a:ext cx="144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3240" y="1555560"/>
              <a:ext cx="1728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59160" y="1555560"/>
              <a:ext cx="144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59160" y="1555560"/>
              <a:ext cx="1728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75080" y="1555560"/>
              <a:ext cx="180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5080" y="1555560"/>
              <a:ext cx="1764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1000" y="1555560"/>
              <a:ext cx="180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1000" y="1555560"/>
              <a:ext cx="1764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07280" y="1555560"/>
              <a:ext cx="144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2895480"/>
            <a:ext cx="99036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289548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97180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1523880"/>
            <a:ext cx="1066680" cy="2362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1523880"/>
            <a:ext cx="990360" cy="2362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791320" y="1371600"/>
          <a:ext cx="3058920" cy="20667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137160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791320" y="3962520"/>
          <a:ext cx="3058920" cy="20667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396252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24T06:56:29Z</dcterms:modified>
  <cp:revision>14</cp:revision>
  <dc:subject/>
  <dc:title>Sin título de diapositiva</dc:title>
</cp:coreProperties>
</file>