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78D-340D-4535-A95E-9E799C75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E90-6165-4554-9E05-A16AE14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1FD-C02E-4D47-AAC3-012C1E12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E6D-27B4-4302-ADD4-708D8E0B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1A3-6B4F-4213-9508-2F5B7A2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149-1991-4E9C-9303-7C4FC8B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010-3984-4AA2-B057-BE9D9DE1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A56-F0AB-48BD-9134-073424C1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7D9-21D0-4FEB-91CF-F36D096B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F75-F30F-41A0-8305-A4BFD3E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2CC-E315-4BC8-86F0-1744D66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B5E-40D8-4472-8D7A-016D39FA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2E0-FA64-49CA-92AE-09577ADB2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1523880"/>
            <a:ext cx="8709120" cy="2314800"/>
            <a:chOff x="228600" y="1523880"/>
            <a:chExt cx="8709120" cy="2314800"/>
          </a:xfrm>
        </p:grpSpPr>
        <p:sp>
          <p:nvSpPr>
            <p:cNvPr id="75" name=""/>
            <p:cNvSpPr/>
            <p:nvPr/>
          </p:nvSpPr>
          <p:spPr>
            <a:xfrm>
              <a:off x="244440" y="1539720"/>
              <a:ext cx="8693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4440" y="1539720"/>
              <a:ext cx="8693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4440" y="1539720"/>
              <a:ext cx="1800" cy="229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40" y="1539720"/>
              <a:ext cx="15840" cy="229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440" y="1539720"/>
              <a:ext cx="8693280" cy="300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4440" y="1822320"/>
              <a:ext cx="1216080" cy="201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9640" y="15555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6280" y="1555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5320" y="1555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1160" y="155556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0200" y="155556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9440" y="155556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70400" y="155556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400" y="183996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9480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0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2664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68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10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4256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9316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42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8480" y="18399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07280" y="18399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04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8996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24640" y="183996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960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90200" y="18399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41280" y="18399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3908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55720" y="18399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080" y="18399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9160" y="18399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120" y="212256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072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09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38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0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652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256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31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242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848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728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04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4400" y="212256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3560" y="212256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5640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0200" y="21225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1280" y="212256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3908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5720" y="212256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40080" y="212256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39160" y="2122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760" y="24066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772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73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64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796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432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2664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244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848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7280" y="24066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0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9960" y="2406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4640" y="24066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960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3200" y="24066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40920" y="24066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7248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5720" y="24066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0080" y="24066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39160" y="240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760" y="268920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772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620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36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364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796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432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256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316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42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848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07280" y="26892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04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8996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24640" y="268920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0200" y="2689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41280" y="26892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908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1640" y="2689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40800" y="2689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0920" y="26892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" y="297180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072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9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38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664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68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100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4256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316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4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848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7280" y="297180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0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704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2320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73200" y="29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40920" y="29718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7248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55720" y="297180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0080" y="297180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39160" y="2971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400" y="32558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072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09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38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43640" y="32558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2558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32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256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931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242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5848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728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048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74400" y="3255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23560" y="32558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640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728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3984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3892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55720" y="32558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0080" y="32558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39160" y="32558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960" y="3538440"/>
              <a:ext cx="72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9480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606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107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765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266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244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112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6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704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32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7280" y="35384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39840" y="35384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892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73920" y="353844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39000" y="3538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444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44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44324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324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45916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9160" y="1523880"/>
              <a:ext cx="172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47508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49100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100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5072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72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2320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2320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721640" y="1539360"/>
              <a:ext cx="1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21640" y="1523880"/>
              <a:ext cx="176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0280" y="1523880"/>
              <a:ext cx="867744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921880" y="15393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21880" y="1523880"/>
              <a:ext cx="1584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280" y="182232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0280" y="1822320"/>
              <a:ext cx="8643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280" y="21067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0280" y="210672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0280" y="238932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280" y="238932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280" y="26733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0280" y="26733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0280" y="29559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0280" y="295596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0280" y="323856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280" y="323856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3522600"/>
              <a:ext cx="864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80" y="3522600"/>
              <a:ext cx="86439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523880"/>
              <a:ext cx="31680" cy="231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324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324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5916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59160" y="1555560"/>
              <a:ext cx="1728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7508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1000" y="1555560"/>
              <a:ext cx="180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1000" y="1555560"/>
              <a:ext cx="17640" cy="224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07280" y="1555560"/>
              <a:ext cx="1440" cy="224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895480"/>
            <a:ext cx="99036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89548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97180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523880"/>
            <a:ext cx="106668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523880"/>
            <a:ext cx="990360" cy="2362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4T06:56:29Z</dcterms:modified>
  <cp:revision>14</cp:revision>
  <dc:subject/>
  <dc:title>Sin título de diapositiva</dc:title>
</cp:coreProperties>
</file>