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DEB-E7EC-4FE6-88AF-DE9E2363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056-AAFB-479F-8D97-856C771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113-2F77-4D11-A21F-35A80FE5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020-502D-4245-BA77-0E9B9704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049-5A31-47E4-8C49-A01AC75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D60-3BDA-493F-9D59-345632F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9C5-ED3E-4577-B206-6B64247C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1CD-E350-4F23-BD5F-D6379798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C38-46B7-43A9-A3D4-AC7DA675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468-9155-4ACD-BCF8-BDACB14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73A-E12C-494E-8111-7DE7BEC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E81-B429-45CE-A559-1355862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4FE6-ED1D-4C5E-B14C-DCDD76A20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1523880"/>
            <a:ext cx="8709120" cy="2314800"/>
            <a:chOff x="228600" y="1523880"/>
            <a:chExt cx="8709120" cy="2314800"/>
          </a:xfrm>
        </p:grpSpPr>
        <p:sp>
          <p:nvSpPr>
            <p:cNvPr id="75" name=""/>
            <p:cNvSpPr/>
            <p:nvPr/>
          </p:nvSpPr>
          <p:spPr>
            <a:xfrm>
              <a:off x="244440" y="1539720"/>
              <a:ext cx="8693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440" y="1539720"/>
              <a:ext cx="8693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40" y="1539720"/>
              <a:ext cx="1800" cy="229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40" y="1539720"/>
              <a:ext cx="15840" cy="229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440" y="1539720"/>
              <a:ext cx="8693280" cy="300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4440" y="1822320"/>
              <a:ext cx="1216080" cy="201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9640" y="15555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6280" y="1555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5320" y="1555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1160" y="155556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0200" y="155556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9440" y="155556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0" y="15555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400" y="18399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9480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0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664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68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0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4256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9316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42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848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072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04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996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24640" y="183996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9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9020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1280" y="18399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9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5572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080" y="18399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916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120" y="2122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072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09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38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0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652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256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31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242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848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728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04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440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35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64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0200" y="21225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1280" y="21225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90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5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0080" y="21225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3916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760" y="24066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772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73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64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796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32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2664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244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848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7280" y="2406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0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996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46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960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320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40920" y="24066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2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572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0080" y="24066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391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760" y="268920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772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20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36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364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796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432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256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316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42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848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0728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04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8996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46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020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41280" y="26892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90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164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0" y="2689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092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" y="297180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072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9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38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664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8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100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256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31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4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848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72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704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23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7320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0920" y="29718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5572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0080" y="2971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3916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400" y="32558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072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09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38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640" y="32558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2558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32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256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931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242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5848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728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04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7440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235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64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728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984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3892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5572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008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3916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960" y="353844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480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606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07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765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266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244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11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6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70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32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28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39840" y="35384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8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73920" y="353844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444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4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44324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324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5916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916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7508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9100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100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5072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72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2320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320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7216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2164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0280" y="1523880"/>
              <a:ext cx="8677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9218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218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280" y="182232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280" y="1822320"/>
              <a:ext cx="8643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80" y="21067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0280" y="210672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0280" y="23893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280" y="238932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280" y="26733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0280" y="26733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0280" y="29559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0280" y="29559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0280" y="32385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280" y="323856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352260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80" y="352260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523880"/>
              <a:ext cx="31680" cy="231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324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324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916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916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508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100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100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728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895480"/>
            <a:ext cx="99036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89548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97180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523880"/>
            <a:ext cx="106668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523880"/>
            <a:ext cx="99036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4T06:56:29Z</dcterms:modified>
  <cp:revision>14</cp:revision>
  <dc:subject/>
  <dc:title>Sin título de diapositiva</dc:title>
</cp:coreProperties>
</file>