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920-F879-47AD-AF4E-CD145943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8FE-08ED-4B0E-8D89-925A8E68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A24-530A-47F3-8C49-EBE87D50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527-8D4C-40BA-A401-11686E26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422-0A49-4A44-B583-E4D68F16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DA5-094C-4991-A830-6F51606B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067-298A-4D33-864C-AD7F4EDA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84D-5950-4C98-8A6D-3BDBC4C6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CC1-C21A-405B-929A-AE374A14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E26-7D90-4473-8AF6-DA4188D5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C13-A63E-4FC8-935A-8646CD82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22C-E4F4-4636-85E7-A293178D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830F-2E84-443C-BF0B-DEAE0C765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33:14Z</dcterms:created>
  <dc:creator>Marcela Munizaga</dc:creator>
  <dc:description/>
  <dc:language>en-US</dc:language>
  <cp:lastModifiedBy>Marcela Munizaga</cp:lastModifiedBy>
  <dcterms:modified xsi:type="dcterms:W3CDTF">2004-08-24T06:55:48Z</dcterms:modified>
  <cp:revision>10</cp:revision>
  <dc:subject/>
  <dc:title>Modelación de la Generación de Viajes</dc:title>
</cp:coreProperties>
</file>