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0E7-E047-4241-9978-B4FA505E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B9D-37DD-421D-95A9-37098C00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E3F-5C71-414A-8198-E54A1E47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47F-D8CB-4F6A-A0B5-79C0D948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308-D6BB-4B32-974E-9BE76E07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529-C20F-4633-A75D-2E8C4242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1DB-5FD5-44B9-AD64-5154E376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652-83AA-4DCC-B2F0-5AD8F9A6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9CC-7078-4835-AF52-8441ABF1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9AC-2252-4F34-98B7-DB1A2DA2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059-18E6-4FEB-90FB-E859675C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35F-B247-47E1-8805-68593600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6CF0-F373-4107-8C14-748BCC444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33:14Z</dcterms:created>
  <dc:creator>Marcela Munizaga</dc:creator>
  <dc:description/>
  <dc:language>en-US</dc:language>
  <cp:lastModifiedBy>Marcela Munizaga</cp:lastModifiedBy>
  <dcterms:modified xsi:type="dcterms:W3CDTF">2004-08-24T06:55:48Z</dcterms:modified>
  <cp:revision>10</cp:revision>
  <dc:subject/>
  <dc:title>Modelación de la Generación de Viajes</dc:title>
</cp:coreProperties>
</file>