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57F8-F14D-4044-872D-466BF8A0F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61D9-7540-4D96-B0EB-31672731F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B4C9-3058-4A13-89C1-3A1F40FD2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8172-F980-446D-AAE0-0C4F6E87F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CB17-DCA4-4732-B434-472FADB2B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0344-0E57-4053-BFFA-ABCED64CD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EA25-55E2-47E5-B8D4-48C2B3A4F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B6CA-DA4F-413B-A213-F306C170C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3805-D760-4656-B87B-2FF71E9C9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7FD1-0BBC-42AE-889B-6D6D250BB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E53E-1C78-4713-8F37-55B8C86E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431B-24BE-4D0F-8BED-63BE40819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0D637-1AEE-4B80-9404-149E4ECD12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6477120" y="3505320"/>
                <a:ext cx="15303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3" name=""/>
          <p:cNvSpPr/>
          <p:nvPr/>
        </p:nvSpPr>
        <p:spPr>
          <a:xfrm>
            <a:off x="5181480" y="38862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28800" y="4952880"/>
            <a:ext cx="3962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ultiplicar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p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5334120" y="4648320"/>
                <a:ext cx="105552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T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838080" y="1905120"/>
            <a:ext cx="777240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calculamos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, y se obtiene valores distint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=&gt; correg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i le creemos más a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219320" y="685800"/>
            <a:ext cx="64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Producciones de Viajes Pers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Viajes Gene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Basados en el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717560" y="2592360"/>
          <a:ext cx="5708880" cy="167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2592360"/>
                    <a:ext cx="5708880" cy="16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1676520" y="4602240"/>
          <a:ext cx="6553080" cy="22557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602240"/>
                    <a:ext cx="6553080" cy="22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1676520" y="609480"/>
          <a:ext cx="5708520" cy="312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609480"/>
                    <a:ext cx="5708520" cy="31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1676520" y="4314960"/>
          <a:ext cx="5708520" cy="2543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314960"/>
                    <a:ext cx="5708520" cy="25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1717560" y="544680"/>
          <a:ext cx="5708880" cy="5770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544680"/>
                    <a:ext cx="5708880" cy="57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1717560" y="2011320"/>
          <a:ext cx="5708880" cy="283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2011320"/>
                    <a:ext cx="570888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tapa siguiente: Distribu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38080" y="3048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rigen - Destino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64832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4832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1008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1008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72200" y="32004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380988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1008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172200" y="44956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41008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4832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8620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8620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4832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41008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19051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86200" y="44956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4495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172200" y="4495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10080" y="44956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172200" y="38098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72200" y="1905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172200" y="2590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495680" y="259092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905120"/>
            <a:ext cx="83055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tro modelo, que proviene de un paradigma diferente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puesto: Las tasas de generación de viajes son constantes para determinados tipos de hogar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3434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11480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 que cambia es la distribución de esos tipos de hogares en la pobl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1905120"/>
            <a:ext cx="83055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h: tipo de hogar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(h): promedio de viajes con un propósito dado, y a la hora en cuestión, realizados por miembros de hogares tipo h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h): número de hogares tipo h en la zona 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7242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5334120"/>
            <a:ext cx="807696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mparar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odelado con los observ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edicción: simular a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h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722600" y="4495680"/>
                <a:ext cx="280332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h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1905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54864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19320" y="5029200"/>
            <a:ext cx="76960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úmero de categorías =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número de grup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2514600"/>
            <a:ext cx="3810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maño d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3124080"/>
            <a:ext cx="3733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asa motor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38098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gr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4495680"/>
            <a:ext cx="4190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tructura d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64832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1008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7220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7220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1008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64832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17220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41008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4832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60958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5867280"/>
            <a:ext cx="7010640" cy="7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 variables, 3 niveles c/u ==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81 categorí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1905120"/>
            <a:ext cx="4267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 numér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2514600"/>
            <a:ext cx="3810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po de hogar  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3505320"/>
            <a:ext cx="3504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(1)= 6 viajes 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38080" y="4191120"/>
            <a:ext cx="7848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250·6+250·2,5=2.125 viajes/día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500·6=3.000 viajes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733920" y="2590920"/>
            <a:ext cx="213336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09880" y="2590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: Con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120" y="2590920"/>
            <a:ext cx="20574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3080" y="2590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: Sin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48320" y="3505320"/>
            <a:ext cx="38098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(2)= 2,5 viajes 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56386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828800"/>
            <a:ext cx="83059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Cómo podemos saber si el supuesto es cier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varianza de t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alibración ¿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calcular t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edicción ¿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estimar distribución de prob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I,TM,EH)=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: modelo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C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Análisis de Categorías o Clasif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56386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2590920"/>
            <a:ext cx="40384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cepto muy sencillo e intuiti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se postulan relaciones matemát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cular tasa generación es triv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638680" y="190512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sventa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76920" y="2590920"/>
            <a:ext cx="403848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No se puede saber la significancia de las variables escog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edecir la distribución de los hogares según tipo es muy difíc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190512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ntaj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95480" y="60958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1676520"/>
            <a:ext cx="80769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mos vis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o de factor de creci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o de regresión line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o de análisis por categorí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14479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.. f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4267080"/>
            <a:ext cx="25909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so de 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mograf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cce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324480" y="4495680"/>
            <a:ext cx="2590920" cy="14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tal qu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=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45720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de genera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52680" y="4419720"/>
            <a:ext cx="1828800" cy="15238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66880" y="5029200"/>
            <a:ext cx="381240" cy="380880"/>
          </a:xfrm>
          <a:prstGeom prst="rightArrow">
            <a:avLst>
              <a:gd name="adj1" fmla="val 50000"/>
              <a:gd name="adj2" fmla="val 25024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86400" y="502920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95480" y="61722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Elasticidad al costo de transpor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57200" y="45720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jemplo </a:t>
            </a: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GENERACIÓ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DE VIAJ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iudad de </a:t>
            </a: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Puerto Montt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atos de 1998, obtenidos de una Encuesta Origen - Destino realizada al 5% de los hogares durante un día laboral típico. Nivel de agregación: 54 zonas. 2 periodos. 10 propósitos de via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371600" y="2411280"/>
          <a:ext cx="6629400" cy="4151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411280"/>
                    <a:ext cx="662940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9T01:33:14Z</dcterms:created>
  <dc:creator>Marcela Munizaga</dc:creator>
  <dc:description/>
  <dc:language>en-US</dc:language>
  <cp:lastModifiedBy>Marcela Munizaga</cp:lastModifiedBy>
  <dcterms:modified xsi:type="dcterms:W3CDTF">2004-08-24T06:55:48Z</dcterms:modified>
  <cp:revision>10</cp:revision>
  <dc:subject/>
  <dc:title>Modelación de la Generación de Viajes</dc:title>
</cp:coreProperties>
</file>