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5DF-2305-4AAA-831D-20448DF8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007-9BE1-49F9-A20F-C212EA52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9C4-72FD-4FC6-9E0C-2E832B2F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DA9-FF41-4137-B7B4-83A153EF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956-2031-44DF-8E40-E75915E2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93A-052A-4899-A0D9-DA57D8F6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8FC-D844-460B-90E3-E7307BE8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ACD6-55D7-423C-BAC5-D4750EDF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D45-438B-4E81-A5DC-32A1BD5F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0C48-67D6-470C-AC9D-9B9F5513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598-80DC-4204-AA1A-F826700B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F3D-BD20-4949-B975-FBA015DD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FB97-F23A-4071-8E13-C1AD98C3F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1:33:14Z</dcterms:created>
  <dc:creator>Marcela Munizaga</dc:creator>
  <dc:description/>
  <dc:language>en-US</dc:language>
  <cp:lastModifiedBy>Marcela Munizaga</cp:lastModifiedBy>
  <dcterms:modified xsi:type="dcterms:W3CDTF">2004-08-24T06:55:48Z</dcterms:modified>
  <cp:revision>10</cp:revision>
  <dc:subject/>
  <dc:title>Modelación de la Generación de Viajes</dc:title>
</cp:coreProperties>
</file>