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9F1-F702-4528-A110-B8EB6AB9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832-DCEC-44EE-9FA2-D3CA8616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448-8702-447B-AC69-924C5894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E3B-91A9-4B64-BEF1-331629BA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B2E-F548-433E-9252-A33C4986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850-DE0E-419C-96A5-E187E3AA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94F-AD79-4818-A15A-751BF6C3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D5C-6EBF-4D36-A2BC-7FF63B08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8F5-E1FD-422F-BFA6-2FC10525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57C-3B00-426F-946E-99480436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C98-57D0-4357-ABEE-E2A06381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E95-00FB-46D0-B191-BE195FAB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404C-BB4F-47D4-BC53-A7B1B5079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chas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1: 31 Agos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2: 5 Octu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3: 2 Noviem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051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i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j, y se obtiene valores distin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Ya vimos: factor de cr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X no son estocásticos, no existe rel. lineal entre dos var. inde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14800" y="57913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9718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49568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 socioeconómicas de los hogar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49:44Z</dcterms:created>
  <dc:creator>Marcela Munizaga</dc:creator>
  <dc:description/>
  <dc:language>en-US</dc:language>
  <cp:lastModifiedBy>Marcela Munizaga</cp:lastModifiedBy>
  <dcterms:modified xsi:type="dcterms:W3CDTF">2004-08-17T03:49:55Z</dcterms:modified>
  <cp:revision>17</cp:revision>
  <dc:subject/>
  <dc:title>CI43A Análisis de Sistemas de Transporte</dc:title>
</cp:coreProperties>
</file>