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579-8CFA-42CF-AF1D-A6BB5CD4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32E-A976-4152-8656-E7AF8AF6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B46-4DFA-4520-B6E6-F5333894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532-4CA5-4975-BDFD-08A3E826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598-FD47-4B09-8719-58079D9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31F-34D4-4F67-88E4-8487B331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06C-C775-4706-A5E1-9A6ABC73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E21-3BE3-4FE1-86B0-A883076B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C28-2CF5-46C0-BDF1-28A94E8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088-EFBD-4858-A8F8-98FE307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3D5-7205-47EF-9AF1-6D772688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747-1664-4F53-87D0-7629948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6652-F01F-409D-9270-4D242AAA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chas contro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1: 31 Agost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2: 5 Octu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3: 2 Noviembre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838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90512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i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j, y se obtiene valores distin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Ya vimos: factor de crec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X no son estocásticos, no existe rel. lineal entre dos var. inde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4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114800" y="57913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29718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49568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4582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 socioeconómicas de los hogares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01:49:44Z</dcterms:created>
  <dc:creator>Marcela Munizaga</dc:creator>
  <dc:description/>
  <dc:language>en-US</dc:language>
  <cp:lastModifiedBy>Marcela Munizaga</cp:lastModifiedBy>
  <dcterms:modified xsi:type="dcterms:W3CDTF">2004-08-17T03:49:55Z</dcterms:modified>
  <cp:revision>17</cp:revision>
  <dc:subject/>
  <dc:title>CI43A Análisis de Sistemas de Transporte</dc:title>
</cp:coreProperties>
</file>