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B946-5BA6-4D88-BB96-F4C81E38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2E5-3B15-4BF7-95D6-86A6DDE5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EA11-F40D-4182-B359-FD02ACCF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0DD8-A368-4061-8DDE-F4E91E45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8036-DB23-476C-B9F8-90E2F948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656-0407-407E-AF67-BE8F006E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406-9BC5-4721-828E-80138AD0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AF9-3E81-47FB-B710-6C867CEA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596-B640-4190-A601-180D7E9D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A2E-F7A4-4E92-AB3B-C2E68B40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2F5-FEB1-4D01-BEC6-425C3CBB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E976-2412-4D2A-937F-0D413086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2C9C-888D-4DAC-9995-00453AB34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chas contro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1: 31 Agost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2: 5 Octu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3: 2 Noviem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8380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90512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i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j, y se obtiene valores distin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Ya vimos: factor de cre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X no son estocásticos, no existe rel. lineal entre dos var. inde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114800" y="57913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29718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4495680"/>
            <a:ext cx="190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371600"/>
            <a:ext cx="84582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 socioeconómicas de los hogares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01:49:44Z</dcterms:created>
  <dc:creator>Marcela Munizaga</dc:creator>
  <dc:description/>
  <dc:language>en-US</dc:language>
  <cp:lastModifiedBy>Marcela Munizaga</cp:lastModifiedBy>
  <dcterms:modified xsi:type="dcterms:W3CDTF">2004-08-17T03:49:55Z</dcterms:modified>
  <cp:revision>17</cp:revision>
  <dc:subject/>
  <dc:title>CI43A Análisis de Sistemas de Transporte</dc:title>
</cp:coreProperties>
</file>