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58C-035D-466E-8FC4-490985C5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6829-1C5A-4725-89E1-54508793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F30B-9590-46A2-85BC-DE681290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CF7-E061-4985-97B1-D2E3B346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F8E-C78F-4849-9837-AAA1451A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13D-F96E-493E-BE5C-17331538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86E-20BA-4118-94F9-F5B9EAA8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B911-6ED9-420B-9542-16841520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A3E-A8AE-4A25-BB1E-A5159C9E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9BFB-8389-458E-B274-8563114A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4A2D-CE19-42FC-8A7F-9A9D3E39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CAD-F3D1-464B-A912-3CDCFB03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CBEB-71D0-43B7-92D0-204974722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chas contro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1: 31 Agost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2: 5 Octu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3: 2 Noviem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8380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90512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i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j, y se obtiene valores distin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Ya vimos: factor de cre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X no son estocásticos, no existe rel. lineal entre dos var. inde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114800" y="57913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29718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4495680"/>
            <a:ext cx="190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371600"/>
            <a:ext cx="84582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 socioeconómicas de los hogares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01:49:44Z</dcterms:created>
  <dc:creator>Marcela Munizaga</dc:creator>
  <dc:description/>
  <dc:language>en-US</dc:language>
  <cp:lastModifiedBy>Marcela Munizaga</cp:lastModifiedBy>
  <dcterms:modified xsi:type="dcterms:W3CDTF">2004-08-17T03:49:55Z</dcterms:modified>
  <cp:revision>17</cp:revision>
  <dc:subject/>
  <dc:title>CI43A Análisis de Sistemas de Transporte</dc:title>
</cp:coreProperties>
</file>