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00C2-8F4A-4567-8FE3-559D2E26A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FE29-B166-407B-A9F1-E907A3C6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D2A2-28F9-47CD-A0B8-C86CAD01D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C0A3-22A5-405C-AFFD-559EC04D1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5EDA-40CC-4C57-80B6-1D15A471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C301-6008-42F3-9DA7-B36CE4F8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C6FC-B9EA-4212-8626-878DBC45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EFBD-C5DC-444F-8D68-A769BF8A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4AEB-B28D-4283-ADAB-65A85F3B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4F57-57FC-49B6-B9FC-275D9E19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4D34-FD46-46F0-9FB0-107EEA2E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FE62-F5AE-4C2B-96C1-384823F0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DDB0-FE06-4078-9F68-DBE21328A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echas contro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 1: 31 Agosto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14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 2: 5 Octubre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14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 3: 2 Noviembre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14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8380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1905120"/>
            <a:ext cx="7315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i 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j, y se obtiene valores distint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cut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os de GENERACIO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Ya vimos: factor de crec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Regresión lin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7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modelo es Y=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+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s X no son estocásticos, no existe rel. lineal entre dos var. inde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=0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cte para tod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hay correlación entre los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tribuye 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stimador MC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114800" y="5791320"/>
                <a:ext cx="41911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600200"/>
            <a:ext cx="8153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origen en la zona i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destino en la zona j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generados por hogares tipo h con propósito trabajo en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...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49528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esagregar por propósito y período, predicción asociada 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762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 es la variable dependi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53341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9480" y="38088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es son las variable independi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variables afectan la generación de viaj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276720"/>
            <a:ext cx="17524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480060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1828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18288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297180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greso, edad, ocupación, tamaño familiar, tasa moto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464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4495680"/>
            <a:ext cx="190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cia de centros comerciales, hospitales, cines, parques. Volumen vent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trabaj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48006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lugares de e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457200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puestos de trabajo, área total de empresas, superficie techad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generación de viajes usando 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371600"/>
            <a:ext cx="84582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gresión a nivel: zonal -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producidos o atraídos por cada zona es función lineal de las características socioeconómicas de los hogares de l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=&gt; necesitamos varianza entre zonas para poder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observaciones = Número de z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cluir zonas cero (Ej: viajes BH en zonas no residen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371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e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200400" y="1447920"/>
                <a:ext cx="47242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457200" y="2286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a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349800" y="2362320"/>
                <a:ext cx="44240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85800" y="2971800"/>
                <a:ext cx="4444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457200" y="4267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Son análog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343400"/>
            <a:ext cx="5486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&lt;==&gt;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H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de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371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Hoga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0: El número de viajes generados por hogar es función lineal de las características de los hog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80880" y="3505320"/>
                <a:ext cx="8534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iaj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ogar</m:t>
                        </m:r>
                      </m:den>
                    </m:f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rabajadores</m:t>
                    </m:r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7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4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ut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457200" y="47242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epresenta la constan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las relaciones no son line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fectos no lin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Ejemplo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ecto número de autos en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3048120"/>
            <a:ext cx="80010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número de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1 auto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2 ó + autos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362320" y="1981080"/>
                <a:ext cx="4495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1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85800" y="609480"/>
          <a:ext cx="458316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458316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85800" y="3429000"/>
            <a:ext cx="80010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tención de totales z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lineal ==&gt; agregación tri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1,07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. Muda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+ 0,75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3,14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7T01:49:44Z</dcterms:created>
  <dc:creator>Marcela Munizaga</dc:creator>
  <dc:description/>
  <dc:language>en-US</dc:language>
  <cp:lastModifiedBy>Marcela Munizaga</cp:lastModifiedBy>
  <dcterms:modified xsi:type="dcterms:W3CDTF">2004-08-17T03:49:55Z</dcterms:modified>
  <cp:revision>17</cp:revision>
  <dc:subject/>
  <dc:title>CI43A Análisis de Sistemas de Transporte</dc:title>
</cp:coreProperties>
</file>