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B7A-7CBF-4E68-B4AA-D8C5163E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433-9423-4F62-B4D4-A35584D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7D5C-4684-44CE-A7DD-BDDA238C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F161-00A8-4E2E-A74C-585CDE96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94ED-2224-41BD-B4E3-A8D3C07D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332-465A-4034-96DA-7643EFD9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1F5D-6302-4263-B2AB-C0A510F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6B34-EFE3-4252-9FCC-C5C09687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8F8-6AAC-4DB0-A704-5C3FB8B5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AD84-EBE5-4E6C-8CCB-84EF0155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F031-89CA-4B47-AFE3-E4041E5F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6C5-7644-46F0-86A3-A8E8CD34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47C-7B8E-427B-A96B-C32805E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BB6F-7F91-47E8-A158-CD3B01D1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681D-E1B4-45B7-BCD2-A64CD247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8EA7-6F4D-44C0-AB77-A8FE47B3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1D8F-9743-46BE-84DF-CF5E2D5C7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C6C-6C9A-46D5-BC25-D26E10B0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2C7-66FB-4BA1-9B59-B57F6E35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0B0-0A59-479A-A423-93EDE6C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EE4F-2DE1-4059-A973-0BA54DF5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5E8-EE07-44A4-B526-34DCE844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C32F-35B8-4BD0-843D-1952DA63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8622-F56E-4D4C-9900-750F77FF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CEC6-357E-4153-9158-7FDD56602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7756-F824-469C-8755-0160168B5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n dos mercados mono-productores de un bien x, distantes entre sí e inicialmente desconectados. ¿Que ocurre si eventualmente se conectan por un medio de transpo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86000" y="17524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22096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23440" y="175248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71720" y="12952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9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617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umento en el precio del combus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5257800"/>
            <a:ext cx="6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=p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6095880" y="4419720"/>
            <a:ext cx="182880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781680" y="17521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5257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171840" y="1752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17184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59984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1599840" y="1752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4640" y="16765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69000" y="166680"/>
            <a:ext cx="503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jemplo: Cambios en la ofert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5560" y="17524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rcados Puntua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068120" y="2286000"/>
            <a:ext cx="4870800" cy="3573360"/>
            <a:chOff x="1068120" y="2286000"/>
            <a:chExt cx="4870800" cy="3573360"/>
          </a:xfrm>
        </p:grpSpPr>
        <p:sp>
          <p:nvSpPr>
            <p:cNvPr id="131" name=""/>
            <p:cNvSpPr/>
            <p:nvPr/>
          </p:nvSpPr>
          <p:spPr>
            <a:xfrm>
              <a:off x="1401840" y="2430360"/>
              <a:ext cx="0" cy="298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1840" y="5415120"/>
              <a:ext cx="418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82880" y="2770200"/>
              <a:ext cx="2577960" cy="20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305080" y="2836440"/>
              <a:ext cx="2062080" cy="190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48600" y="2557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12320" y="44560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(p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8120" y="228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5338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248520" y="1895400"/>
            <a:ext cx="2895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transport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 dispuesta a ofrecer la(s) empresa(s)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antidad del bi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están dispuestos a adquirir los consumidores a un precio 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ofert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01840" y="2430360"/>
            <a:ext cx="0" cy="298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1840" y="5415120"/>
            <a:ext cx="418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200400" y="2743200"/>
            <a:ext cx="2062080" cy="190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7680" y="1981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2286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5338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47920" y="259092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600200" y="2819160"/>
            <a:ext cx="20574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1447920" y="3429000"/>
            <a:ext cx="304776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75160" y="210816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9560" y="2286000"/>
            <a:ext cx="84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deman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00040" y="2479680"/>
            <a:ext cx="0" cy="29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0040" y="5464080"/>
            <a:ext cx="41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8120" y="2743200"/>
            <a:ext cx="2577960" cy="203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93480" y="45720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335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78200" y="538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3048120"/>
            <a:ext cx="685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276720"/>
            <a:ext cx="91440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32760" y="480060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8040" y="4876920"/>
            <a:ext cx="738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4038480"/>
            <a:ext cx="335268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057400"/>
            <a:ext cx="7920" cy="328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13040" y="53388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286000"/>
            <a:ext cx="1652760" cy="19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514600" y="243792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20680" y="22860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25240" y="411480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320" y="19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2520" y="526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638680" y="2209680"/>
            <a:ext cx="14400" cy="322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54100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67280" y="3505320"/>
            <a:ext cx="152424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400800" y="3428640"/>
            <a:ext cx="1322280" cy="18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51080" y="293364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2480" y="4795920"/>
            <a:ext cx="95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82920" y="2209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4120" y="5357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20040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5120" y="4648320"/>
            <a:ext cx="4952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570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14640" y="1743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04280" y="29718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04280" y="44197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86520" y="593424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M? a 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3200400"/>
            <a:ext cx="0" cy="2133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1328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64832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94920" y="54244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ercados Puntuales...equilibr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90120" y="593424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lujo q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de M2 a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04280" y="1600200"/>
            <a:ext cx="7358760" cy="4326840"/>
            <a:chOff x="1304280" y="1600200"/>
            <a:chExt cx="7358760" cy="4326840"/>
          </a:xfrm>
        </p:grpSpPr>
        <p:sp>
          <p:nvSpPr>
            <p:cNvPr id="195" name=""/>
            <p:cNvSpPr/>
            <p:nvPr/>
          </p:nvSpPr>
          <p:spPr>
            <a:xfrm>
              <a:off x="1905120" y="2057400"/>
              <a:ext cx="7920" cy="328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53388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4600" y="2286000"/>
              <a:ext cx="1652760" cy="199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438280" y="2437920"/>
              <a:ext cx="132264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18160" y="233676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65320" y="190512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5320" y="1981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92520" y="52642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638680" y="2209680"/>
              <a:ext cx="14400" cy="322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24640" y="5432400"/>
              <a:ext cx="268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3600" y="3505320"/>
              <a:ext cx="1523880" cy="17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400800" y="3428640"/>
              <a:ext cx="1322280" cy="18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48560" y="298440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89960" y="4846680"/>
              <a:ext cx="84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82920" y="22096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5357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5120" y="3200400"/>
              <a:ext cx="1371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36576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828800" y="4572000"/>
              <a:ext cx="5029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7120" y="4114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905120" y="4114800"/>
              <a:ext cx="4495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1480" y="160020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14640" y="1743120"/>
              <a:ext cx="69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04280" y="29718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04280" y="434340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657600"/>
              <a:ext cx="914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8920" y="34290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28920" y="3886200"/>
              <a:ext cx="383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548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57600" y="3657600"/>
              <a:ext cx="0" cy="1676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477120" y="4114800"/>
              <a:ext cx="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38880" y="411480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52200" y="5410080"/>
              <a:ext cx="45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29000" y="5410080"/>
              <a:ext cx="466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48520" y="548640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486400"/>
              <a:ext cx="609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3280" y="36720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34080" y="3657600"/>
              <a:ext cx="3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s-ES_tradnl" sz="2000" spc="-1" strike="noStrike" baseline="30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11280" y="1542960"/>
            <a:ext cx="468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15960" y="36990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22400" y="1693800"/>
            <a:ext cx="1112760" cy="131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870200" y="17938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9920" y="146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417480" y="1566720"/>
            <a:ext cx="9720" cy="2117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08480" y="368460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22680" y="2417760"/>
            <a:ext cx="1027080" cy="115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930480" y="236844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13160" y="3637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11280" y="2293920"/>
            <a:ext cx="924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78000" y="259380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523880" y="317160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81600" y="2819520"/>
            <a:ext cx="514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523880" y="281952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85360" y="1243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74480" y="12603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23400" y="212076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23400" y="302112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11280" y="259380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8040" y="23623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8040" y="26668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7800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92440" y="2593800"/>
            <a:ext cx="0" cy="1101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281952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2819520"/>
            <a:ext cx="0" cy="85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27400" y="26035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76640" y="23860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1535040"/>
            <a:ext cx="5040" cy="2156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4520" y="1461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6108480" y="288756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8000" y="211284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08000" y="30132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58120" y="241308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8120" y="2712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228600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095880" y="251424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5880" y="2590920"/>
            <a:ext cx="838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34320" y="259092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10400" y="380988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88480" y="220968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12160" y="28195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3657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3733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2743200"/>
            <a:ext cx="0" cy="9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7080" y="4791240"/>
            <a:ext cx="6035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demanda en 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4640" y="5562720"/>
            <a:ext cx="645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eso de oferta en 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24360" y="1600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24360" y="190512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403360" y="184140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52960" y="162396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4440" y="165096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34440" y="1951200"/>
            <a:ext cx="38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86720" y="60199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8800" y="3809880"/>
            <a:ext cx="2819520" cy="914400"/>
          </a:xfrm>
          <a:prstGeom prst="wedgeRectCallout">
            <a:avLst>
              <a:gd name="adj1" fmla="val 84009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5560" y="4038480"/>
            <a:ext cx="28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manda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587600" y="78120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92280" y="29368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98720" y="932040"/>
            <a:ext cx="1112760" cy="1311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946160" y="103176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5880" y="70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494160" y="804960"/>
            <a:ext cx="9360" cy="211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84440" y="2922480"/>
            <a:ext cx="180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9000" y="1655640"/>
            <a:ext cx="1027080" cy="11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006800" y="1606680"/>
            <a:ext cx="890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89480" y="2874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87600" y="1531800"/>
            <a:ext cx="923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54320" y="1832040"/>
            <a:ext cx="51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00200" y="2409480"/>
            <a:ext cx="3138480" cy="28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57560" y="205740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600200" y="2057400"/>
            <a:ext cx="3029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1680" y="4809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150800" y="498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99720" y="13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99720" y="225900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87600" y="1832040"/>
            <a:ext cx="615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147680" y="1600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7680" y="190512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5432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68760" y="1832040"/>
            <a:ext cx="0" cy="110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57560" y="2057400"/>
            <a:ext cx="0" cy="90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2057400"/>
            <a:ext cx="0" cy="851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07320" y="184140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156920" y="162396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72200" y="773280"/>
            <a:ext cx="4680" cy="21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30840" y="7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184440" y="2125800"/>
            <a:ext cx="825480" cy="7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84320" y="13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84320" y="2251080"/>
            <a:ext cx="45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4080" y="165096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34080" y="1951200"/>
            <a:ext cx="511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*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152388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172200" y="1752120"/>
            <a:ext cx="205740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18288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10280" y="1828800"/>
            <a:ext cx="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6720" y="3048120"/>
            <a:ext cx="3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164800" y="144792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88480" y="2057400"/>
            <a:ext cx="75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2200" y="2895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35960" y="29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5880" y="40384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943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4510080"/>
            <a:ext cx="820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010280" y="3581280"/>
            <a:ext cx="0" cy="2362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5880" y="4648320"/>
            <a:ext cx="13716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67480" y="1981080"/>
            <a:ext cx="0" cy="3962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90320" y="6019920"/>
            <a:ext cx="4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54360" y="5867280"/>
            <a:ext cx="89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=q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3809880"/>
            <a:ext cx="3581640" cy="914400"/>
          </a:xfrm>
          <a:prstGeom prst="wedgeRectCallout">
            <a:avLst>
              <a:gd name="adj1" fmla="val 76773"/>
              <a:gd name="adj2" fmla="val -1560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47920" y="39625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quilibrio  del  Mercado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095880" y="4876560"/>
            <a:ext cx="21337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294400" y="4586400"/>
            <a:ext cx="4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90000" y="43578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5880" y="54864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625720" y="5272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57:37Z</dcterms:created>
  <dc:creator>Mariela Salazar</dc:creator>
  <dc:description/>
  <dc:language>en-US</dc:language>
  <cp:lastModifiedBy>Marcela Munizaga</cp:lastModifiedBy>
  <dcterms:modified xsi:type="dcterms:W3CDTF">2004-08-14T01:41:42Z</dcterms:modified>
  <cp:revision>17</cp:revision>
  <dc:subject/>
  <dc:title>II. EQUILIBRIO GENERAL</dc:title>
</cp:coreProperties>
</file>