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7B6-7E0A-4423-800D-C0A3FF290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598-DDEB-486D-A16C-F70E0CBA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73B-CCAB-46CA-875C-6669CB46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F952-D1EA-4C8A-A44F-C0AEC56C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A9EB-10BF-4894-B532-A8D1495B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7518-B712-4F36-80A1-9468E33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7999-E6B3-4D8E-8960-DB0B42CF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4479-9BA1-4D21-BE85-D3F18FD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BF5-8D50-4257-A1C8-EE829D76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13DC-B29F-4ED8-8B63-1776D5AD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8D41-CA33-4B56-91B6-53215A44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326-0A69-474F-B516-CF042C9C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FB57-1CDE-4D98-80B3-D05B70B8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05DA-707C-4FE1-8371-727DB48E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BD26-7D23-4B49-A59F-3BD40EB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4DAF-CDDC-444F-8F60-36D57021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360A-B9B2-4B05-89C7-7DCE06A1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C92-AEB2-4D3A-BBE4-76A1657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CA1-7526-4027-A1B6-3BC1CB15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2742-8195-476C-B8C5-B6FDA3B9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B91F-2217-485A-8336-42562762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0B5-95E8-439A-833F-56C80E9B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934-0798-4971-9AD8-15B61C53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2F4-FAF3-4B13-96D1-DAF35E4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13B6-7C3F-472B-9D2A-FEE385B60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14B-7272-4165-9476-ACE28271D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131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195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Marcela Munizaga</cp:lastModifiedBy>
  <dcterms:modified xsi:type="dcterms:W3CDTF">2004-08-14T01:41:42Z</dcterms:modified>
  <cp:revision>17</cp:revision>
  <dc:subject/>
  <dc:title>II. EQUILIBRIO GENERAL</dc:title>
</cp:coreProperties>
</file>