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1E4-6448-4B2A-90A2-E150A84C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1C4-ED3A-49F2-BC3F-0B0489F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C86-19A9-472E-A5C2-56D38A58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15A-72CF-44C7-B6E7-02EEF220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DCE-BC36-42C3-A76D-CB774D18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6B58-1235-40FA-B5F6-1A52C1A0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0D4F-4A92-416D-938D-DAC8297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962A-34A2-4B92-8F5F-0E03EE82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AD70-131E-4047-A363-A3111063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E21-89FF-4D0B-AFD7-9D6D1E67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A50C-80EA-4C98-B7B7-E168D6EC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4BC-FDC5-403F-9103-BD8AB24C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3C46-144C-4D2A-90E7-EC550E60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89DC-8C0D-4AC6-8A6A-60BB3C5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3C49-84D9-4A55-8805-5C66B8FC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5220-A4F5-4C0B-82E3-7B4FE510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72D0-7EEB-4B14-B7A3-A7ABBB14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C41-966B-45FE-8C46-FFC3DA31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90E-6512-40DD-80CA-82065D2E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A1D-770F-43A4-974B-A08D15C8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A72-0323-4471-87A7-E2582CC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B42-BBC7-4104-AB59-7E11A0B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575-D734-4147-8235-FA47F5C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A5B-F3A3-42DA-9880-428E269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BBD-45DB-4C1D-88C9-B4D364E60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B98F-CDB5-4250-B5E5-7779E4E6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os mercados mono-productores de un bien x, distantes entre sí e inicialmente desconectados. ¿Que ocurre si eventualmente se conectan por un medio de transp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23440" y="175248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71720" y="12952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9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617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o en el precio del combus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5257800"/>
            <a:ext cx="6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095880" y="4419720"/>
            <a:ext cx="1828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781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17184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1718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59984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599840" y="1752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94640" y="16765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69000" y="166680"/>
            <a:ext cx="50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jemplo: Cambios en la ofert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560" y="175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68120" y="2286000"/>
            <a:ext cx="4870800" cy="3573360"/>
            <a:chOff x="1068120" y="2286000"/>
            <a:chExt cx="4870800" cy="3573360"/>
          </a:xfrm>
        </p:grpSpPr>
        <p:sp>
          <p:nvSpPr>
            <p:cNvPr id="131" name=""/>
            <p:cNvSpPr/>
            <p:nvPr/>
          </p:nvSpPr>
          <p:spPr>
            <a:xfrm>
              <a:off x="1401840" y="2430360"/>
              <a:ext cx="0" cy="29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1840" y="5415120"/>
              <a:ext cx="41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2880" y="2770200"/>
              <a:ext cx="2577960" cy="20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305080" y="2836440"/>
              <a:ext cx="2062080" cy="19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48600" y="2557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12320" y="4456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812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0000" y="533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248520" y="1895400"/>
            <a:ext cx="289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transpo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 dispuesta a ofrecer la(s) empresa(s)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n dispuestos a adquirir los consumidores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ofer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01840" y="2430360"/>
            <a:ext cx="0" cy="298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1840" y="5415120"/>
            <a:ext cx="41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00400" y="2743200"/>
            <a:ext cx="2062080" cy="19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7680" y="1981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812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53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47920" y="25909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600200" y="28191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429000"/>
            <a:ext cx="304776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5160" y="210816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560" y="228600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deman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0040" y="2479680"/>
            <a:ext cx="0" cy="29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0040" y="5464080"/>
            <a:ext cx="41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2743200"/>
            <a:ext cx="2577960" cy="20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3480" y="4572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3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78200" y="538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276720"/>
            <a:ext cx="914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2760" y="480060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8040" y="487692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038480"/>
            <a:ext cx="33526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057400"/>
            <a:ext cx="7920" cy="32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3040" y="53388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86000"/>
            <a:ext cx="1652760" cy="19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43792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0680" y="22860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25240" y="41148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32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2520" y="52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38680" y="2209680"/>
            <a:ext cx="14400" cy="322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505320"/>
            <a:ext cx="15242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342864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51080" y="293364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2480" y="479592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292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4120" y="535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20040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64832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570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146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04280" y="29718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04280" y="44197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6520" y="5934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M? a 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20040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328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46483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492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0120" y="5934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ujo 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M2 a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04280" y="1600200"/>
            <a:ext cx="7358760" cy="4326840"/>
            <a:chOff x="1304280" y="1600200"/>
            <a:chExt cx="7358760" cy="4326840"/>
          </a:xfrm>
        </p:grpSpPr>
        <p:sp>
          <p:nvSpPr>
            <p:cNvPr id="195" name=""/>
            <p:cNvSpPr/>
            <p:nvPr/>
          </p:nvSpPr>
          <p:spPr>
            <a:xfrm>
              <a:off x="1905120" y="2057400"/>
              <a:ext cx="7920" cy="32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13040" y="53388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4600" y="2286000"/>
              <a:ext cx="1652760" cy="19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438280" y="2437920"/>
              <a:ext cx="132264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18160" y="233676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65320" y="190512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53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92520" y="526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638680" y="2209680"/>
              <a:ext cx="14400" cy="32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24640" y="54324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3505320"/>
              <a:ext cx="15238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400800" y="3428640"/>
              <a:ext cx="132228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48560" y="298440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89960" y="484668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2920" y="22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535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5120" y="32004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365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4572000"/>
              <a:ext cx="5029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905120" y="4114800"/>
              <a:ext cx="4495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1480" y="16002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14640" y="17431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04280" y="29718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4280" y="43434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65760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8920" y="3429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8920" y="38862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548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760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38880" y="41148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2200" y="541008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5410080"/>
              <a:ext cx="46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8520" y="548640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5486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13280" y="36720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34080" y="36576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11280" y="1542960"/>
            <a:ext cx="468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5960" y="3699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22400" y="1693800"/>
            <a:ext cx="1112760" cy="131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70200" y="17938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992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17480" y="1566720"/>
            <a:ext cx="9720" cy="211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8480" y="36846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22680" y="2417760"/>
            <a:ext cx="10270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930480" y="236844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3160" y="36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11280" y="2293920"/>
            <a:ext cx="924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78000" y="259380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23880" y="317160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81600" y="2819520"/>
            <a:ext cx="51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523880" y="281952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85360" y="1243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74480" y="1260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3400" y="212076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3400" y="30211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11280" y="259380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8040" y="2362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8040" y="26668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7800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9244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281952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2819520"/>
            <a:ext cx="0" cy="85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27400" y="26035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76640" y="23860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1535040"/>
            <a:ext cx="504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452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108480" y="288756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08000" y="211284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8000" y="30132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58120" y="24130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58120" y="2712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22860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095880" y="251424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2590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0400" y="38098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88480" y="220968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12160" y="28195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27432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7080" y="4791240"/>
            <a:ext cx="603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demanda en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4640" y="5562720"/>
            <a:ext cx="64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oferta en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4360" y="1600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2436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03360" y="184140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52960" y="16239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4440" y="1650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34440" y="1951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6720" y="60199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3809880"/>
            <a:ext cx="2819520" cy="914400"/>
          </a:xfrm>
          <a:prstGeom prst="wedgeRectCallout">
            <a:avLst>
              <a:gd name="adj1" fmla="val 84009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5560" y="40384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mand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07320" y="184140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56920" y="16239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4080" y="165096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903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librio  del  Mercado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25720" y="52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57:37Z</dcterms:created>
  <dc:creator>Mariela Salazar</dc:creator>
  <dc:description/>
  <dc:language>en-US</dc:language>
  <cp:lastModifiedBy>Marcela Munizaga</cp:lastModifiedBy>
  <dcterms:modified xsi:type="dcterms:W3CDTF">2004-08-14T01:41:42Z</dcterms:modified>
  <cp:revision>17</cp:revision>
  <dc:subject/>
  <dc:title>II. EQUILIBRIO GENERAL</dc:title>
</cp:coreProperties>
</file>