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041-ED72-4A2E-B8A2-0AA8CB4B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0C0-F44C-441B-BBC9-6E8AE058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674-FB70-4B31-86D9-1FDB8A4A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DC1-2C41-4D97-83D8-DDEC8457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CEA-2AAF-48AE-9932-DD5A534A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362-0EC7-48A7-9024-A6F48411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577-17C6-42BF-8E43-EB7405C7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E97-0F10-496F-BE77-8B54A41B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A1F-6353-4767-9D4C-FE688DD9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551-9BCB-4216-A3BF-C52969AD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485-4F0B-4D89-89AC-71A44690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024-0D3F-4308-9616-8D445E05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C0D0-4F5B-433F-9192-E9BB25F8E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267080"/>
            <a:ext cx="396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666880"/>
                <a:ext cx="27054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4-08-12T05:39:28Z</dcterms:modified>
  <cp:revision>10</cp:revision>
  <dc:subject/>
  <dc:title>Sin título de diapositiva</dc:title>
</cp:coreProperties>
</file>