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524-49B1-465D-AAA9-E814C9C3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FEC8-5966-47CA-8ABD-2832C432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A03-1E4C-4D7B-868F-4EED9119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5A8D-9399-4F76-86AD-FB97D54B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2E18-EA85-4F87-9945-1B1EC410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C1F-0926-4BA9-BB40-C22C9D68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608F-6BE8-4540-AAC9-9C55D516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8ED-DFB1-4ED5-939D-674E2B02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05D-9E4C-4624-9D67-CB97828A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FD2-11C3-4EFC-9BEA-FA764E0C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C36-AE98-4C18-932D-BF3C0516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930-1C9D-46CC-8500-34B9BBA6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8378-A7C8-4F8D-BE47-178F72F03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4267080"/>
            <a:ext cx="3962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24280" y="2666880"/>
                <a:ext cx="27054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4-08-12T05:39:28Z</dcterms:modified>
  <cp:revision>10</cp:revision>
  <dc:subject/>
  <dc:title>Sin título de diapositiva</dc:title>
</cp:coreProperties>
</file>