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718-C132-4D3B-8E8B-A23D45EF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D20-044B-4D07-8F44-CE8F5F33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3AEF-E044-4323-824F-10BC6E1A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696-0BCC-4B81-8197-84DF059F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C18-89A5-463A-8AC7-CA4208AA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501-C0C0-44D2-8D07-8AF0055D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9A5-CF77-46F7-A77B-BAA3E69B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922-5BAA-4B08-8AB2-752FBCD5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E32-9C62-4FC6-835C-DCD89FCE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26F-37D0-4978-8DAF-3CB7F5C2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5B3-9932-4D65-838C-C266A052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21C-2859-489E-B78B-389C4B14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5E67-00A6-466B-A18B-702B930E1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4267080"/>
            <a:ext cx="3962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666880"/>
                <a:ext cx="27054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4-08-12T05:39:28Z</dcterms:modified>
  <cp:revision>10</cp:revision>
  <dc:subject/>
  <dc:title>Sin título de diapositiva</dc:title>
</cp:coreProperties>
</file>