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05D-1A90-40DB-B173-43E441B6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5A6-7456-446D-A55F-38A37A36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E91-DC37-4597-9F23-E4B2C88B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315-5411-4643-A158-F8C74516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DFB-E06C-4D0A-ABFA-2F92D910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238-43EB-4386-B13A-44E97D99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413-88CF-4A7A-9872-3500BAFA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B7C-ABC0-42B9-89E1-AACD3103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E55-9554-4859-B179-B4B444B1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B24-034D-444E-9F24-BBCC89B6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68A-505E-4245-A5D4-A083A8DC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085-1C27-4B6F-AD2D-3E1797FB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F009-5876-4308-9B9D-239F99144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267080"/>
            <a:ext cx="396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666880"/>
                <a:ext cx="27054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4-08-12T05:39:28Z</dcterms:modified>
  <cp:revision>10</cp:revision>
  <dc:subject/>
  <dc:title>Sin título de diapositiva</dc:title>
</cp:coreProperties>
</file>