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DC4-BE32-46D8-8292-44F88462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A25-CED0-4B5F-B7AB-FD3C97E0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41E-393D-4750-AA7C-A57AC96C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580-A19A-47D2-9701-48A287CD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646-76A1-4590-B99E-577E6E76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B20-D6D3-482D-A1A1-0F407004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EA4-84B8-4D4A-9D4A-B84165D6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14E-7CFA-47E1-9A95-00BF066D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059-79EB-47FE-A280-7FBDAF0F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095-EBEA-4487-B428-B9EDF3CF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A94-A5A4-4D58-8BB9-469BEFE2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A25-8374-451D-9374-B585C61B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A18B-AC93-4164-B4F0-92533EAEC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267080"/>
            <a:ext cx="396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666880"/>
                <a:ext cx="27054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4-08-12T05:39:28Z</dcterms:modified>
  <cp:revision>10</cp:revision>
  <dc:subject/>
  <dc:title>Sin título de diapositiva</dc:title>
</cp:coreProperties>
</file>