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F99C-6CD8-44D8-8781-BED0FCEC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4D06-29E9-4C1C-A101-D5973396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9D2B-8965-48F9-8058-81C2AB7C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38FA-4EBE-48D6-A879-92B5D0DE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35ED-7AE2-4F3B-B7FD-997DDD94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5D9-206F-4EF0-A758-D8E8C3AF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245-0E9B-44A6-9B2C-73A7915E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DDF0-DF42-4605-BE2A-0050770C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3C0A-0900-4536-BAAC-ADDB5132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6A69-D7DB-4E60-B4B4-60DCA8D7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52B2-7973-49B7-B8A2-30E83982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CA88-0513-4E1C-8B0D-7A250634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2374-DDE4-4F90-A16C-F0F82B456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4267080"/>
            <a:ext cx="3962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724280" y="2666880"/>
                <a:ext cx="27054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4-08-12T05:39:28Z</dcterms:modified>
  <cp:revision>10</cp:revision>
  <dc:subject/>
  <dc:title>Sin título de diapositiva</dc:title>
</cp:coreProperties>
</file>