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276-8C4F-420E-9DD8-E3824AC0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8C2-883A-477C-839C-1BEF1386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149-62A5-402B-A412-AF3182C1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44F-8174-41E5-86BB-0DF258BA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CFE-D9BC-4531-BEB9-145CCDA7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261-02AC-4920-AFF6-078A4BFD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6C9-4283-47EA-A9F2-E2595FE4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61D-FC43-4C55-8EA9-384E289E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32F-2AB4-43A9-81A6-3EDEBC03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A38-524E-46DC-84F9-16684940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B7F-14CD-4AB9-ADEC-632062A7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FF3-60BE-4C32-9FF3-B829A2D5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3FCC-C9B8-4FE0-8A80-AF2E6CB03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4267080"/>
            <a:ext cx="3962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666880"/>
                <a:ext cx="27054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4-08-12T05:39:28Z</dcterms:modified>
  <cp:revision>10</cp:revision>
  <dc:subject/>
  <dc:title>Sin título de diapositiva</dc:title>
</cp:coreProperties>
</file>